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847B-B8BF-4349-81C3-D07D6F6883EB}" type="slidenum">
              <a:rPr b="1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F5A2-C6D5-4009-815D-6D137CBE2102}" type="slidenum">
              <a:rPr b="1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2490-B0C5-41CD-A6E0-055DA0845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C9CB-FFA5-4CB9-92BF-5DCF712F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F3CE-07EB-41A5-AE33-C7355DC0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4062-74C2-4628-AB19-2EAE6888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3D37-3A06-4D47-A63C-5525BE9E5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26F9-0ECE-40C7-BC40-B1EE5C09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8594-6F1C-4432-84AA-7E041BB6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868E-3AA5-412D-A77B-11808136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A9B4-FF6E-4364-96A6-7387E567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1121-42A2-4F9C-8DF4-973C863D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21D7-4E50-4375-9ED6-77458522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1652-3C6E-4655-993A-B19B23A9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96A1-7D3B-41ED-AF4D-7A1342C3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D8E1-45A3-4411-AB0C-FD37E127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7DDF-68A0-46D5-ACDB-8A67EC53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7463-CB14-49BD-8052-EDA33E22B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7CE4-9AAD-451E-9921-FF30A5D0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5238-EDEB-48F4-83A8-655EB6B6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BDDB-2B88-4E88-866E-F8794E53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619E-1BEF-4456-B4BC-0ADD1804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9768-9288-4108-B47F-15F8E543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19FD-9E21-4F43-BAFC-0BB50803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5AC8-0499-4DD4-BAC2-F575FA75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81E4-4D7B-4097-9C9C-BB435DE4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3A80-3C7B-420E-8745-AAEF9858749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0080-D836-4DB0-B393-A79189A85BAE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6500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0" y="0"/>
            <a:ext cx="9144000" cy="6350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3"/>
          <p:cNvGrpSpPr/>
          <p:nvPr/>
        </p:nvGrpSpPr>
        <p:grpSpPr>
          <a:xfrm>
            <a:off x="4759200" y="973080"/>
            <a:ext cx="4268520" cy="5001840"/>
            <a:chOff x="4759200" y="973080"/>
            <a:chExt cx="4268520" cy="5001840"/>
          </a:xfrm>
        </p:grpSpPr>
        <p:pic>
          <p:nvPicPr>
            <p:cNvPr id="157" name="Picture 4" descr=""/>
            <p:cNvPicPr/>
            <p:nvPr/>
          </p:nvPicPr>
          <p:blipFill>
            <a:blip r:embed="rId1"/>
            <a:srcRect l="6250" t="19447" r="59980" b="28474"/>
            <a:stretch/>
          </p:blipFill>
          <p:spPr>
            <a:xfrm>
              <a:off x="4759200" y="973080"/>
              <a:ext cx="4268520" cy="495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5"/>
            <p:cNvSpPr/>
            <p:nvPr/>
          </p:nvSpPr>
          <p:spPr>
            <a:xfrm>
              <a:off x="4759200" y="987480"/>
              <a:ext cx="4268520" cy="49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6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1.03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366840" y="1897200"/>
            <a:ext cx="429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ose a starting point at random between 1 and 10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228600" y="3429000"/>
            <a:ext cx="504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se this gives 5.87352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 start at item number 5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228600" y="4724280"/>
            <a:ext cx="5006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 choose every 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tem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 k = N/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152280" y="2666880"/>
            <a:ext cx="500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calculato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 +   1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RAN#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406440" y="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atic sampl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366840" y="979560"/>
            <a:ext cx="429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obtain a systematic sample of size 20 from this d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3"/>
          <p:cNvSpPr/>
          <p:nvPr/>
        </p:nvSpPr>
        <p:spPr>
          <a:xfrm>
            <a:off x="8678880" y="1395360"/>
            <a:ext cx="345960" cy="2430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4"/>
          <p:cNvSpPr/>
          <p:nvPr/>
        </p:nvSpPr>
        <p:spPr>
          <a:xfrm>
            <a:off x="8678880" y="1886040"/>
            <a:ext cx="345960" cy="24264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5"/>
          <p:cNvSpPr/>
          <p:nvPr/>
        </p:nvSpPr>
        <p:spPr>
          <a:xfrm>
            <a:off x="8678880" y="2371680"/>
            <a:ext cx="345960" cy="2430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8678880" y="2862360"/>
            <a:ext cx="345960" cy="24264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7"/>
          <p:cNvSpPr/>
          <p:nvPr/>
        </p:nvSpPr>
        <p:spPr>
          <a:xfrm>
            <a:off x="8678880" y="3338640"/>
            <a:ext cx="345960" cy="24264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8"/>
          <p:cNvSpPr/>
          <p:nvPr/>
        </p:nvSpPr>
        <p:spPr>
          <a:xfrm>
            <a:off x="8678880" y="3828960"/>
            <a:ext cx="345960" cy="2430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9"/>
          <p:cNvSpPr/>
          <p:nvPr/>
        </p:nvSpPr>
        <p:spPr>
          <a:xfrm>
            <a:off x="8678880" y="4314960"/>
            <a:ext cx="345960" cy="24264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8678880" y="4805280"/>
            <a:ext cx="345960" cy="2430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1"/>
          <p:cNvSpPr/>
          <p:nvPr/>
        </p:nvSpPr>
        <p:spPr>
          <a:xfrm>
            <a:off x="8678880" y="5267160"/>
            <a:ext cx="345960" cy="2430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2"/>
          <p:cNvSpPr/>
          <p:nvPr/>
        </p:nvSpPr>
        <p:spPr>
          <a:xfrm>
            <a:off x="8678880" y="5757840"/>
            <a:ext cx="345960" cy="2430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3"/>
          <p:cNvSpPr/>
          <p:nvPr/>
        </p:nvSpPr>
        <p:spPr>
          <a:xfrm>
            <a:off x="6937200" y="1395360"/>
            <a:ext cx="346320" cy="2430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6937200" y="1886040"/>
            <a:ext cx="346320" cy="24264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5"/>
          <p:cNvSpPr/>
          <p:nvPr/>
        </p:nvSpPr>
        <p:spPr>
          <a:xfrm>
            <a:off x="6937200" y="2371680"/>
            <a:ext cx="346320" cy="2430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6"/>
          <p:cNvSpPr/>
          <p:nvPr/>
        </p:nvSpPr>
        <p:spPr>
          <a:xfrm>
            <a:off x="6937200" y="2862360"/>
            <a:ext cx="346320" cy="24264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7"/>
          <p:cNvSpPr/>
          <p:nvPr/>
        </p:nvSpPr>
        <p:spPr>
          <a:xfrm>
            <a:off x="6937200" y="3338640"/>
            <a:ext cx="346320" cy="24264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8"/>
          <p:cNvSpPr/>
          <p:nvPr/>
        </p:nvSpPr>
        <p:spPr>
          <a:xfrm>
            <a:off x="6937200" y="3828960"/>
            <a:ext cx="346320" cy="2430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9"/>
          <p:cNvSpPr/>
          <p:nvPr/>
        </p:nvSpPr>
        <p:spPr>
          <a:xfrm>
            <a:off x="6937200" y="4314960"/>
            <a:ext cx="346320" cy="24264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6937200" y="4805280"/>
            <a:ext cx="346320" cy="2430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1"/>
          <p:cNvSpPr/>
          <p:nvPr/>
        </p:nvSpPr>
        <p:spPr>
          <a:xfrm>
            <a:off x="6937200" y="5267160"/>
            <a:ext cx="346320" cy="2430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2"/>
          <p:cNvSpPr/>
          <p:nvPr/>
        </p:nvSpPr>
        <p:spPr>
          <a:xfrm>
            <a:off x="6937200" y="5757840"/>
            <a:ext cx="346320" cy="2430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228600" y="5638680"/>
            <a:ext cx="50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100/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228600" y="6095880"/>
            <a:ext cx="53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5.  So sample every 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t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tratified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28600" y="914400"/>
            <a:ext cx="876312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Use when the population consists of categories (strata), and you wish to represent each ‘stratum’ proportion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E.g. racial groups, one-story and multi-story homes within a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Obtain a list of all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tems in the target population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(Sampling Fram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Decide on your sample size,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Divide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sampling frame (list) into the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trata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(categori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lect a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te random sample from each stratum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proportion to the percentage of the population found in 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roportional Allocatio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: Selecting from each stratum in proportion to its percentage of the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228600" y="533160"/>
            <a:ext cx="876312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Obtain a list of all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tems in the target population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(Sampling Fram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Decide on your sample size,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Divide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sampling frame (list) into the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trata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(categori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lect a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te random sample from each stratum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proportion to the percentage of the population found in 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roportional Allocation: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electing from each stratum in proportion to its percentage of the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E.g. If 12% of a city’s citizens are Pacific Islanders, then 12% of the sample size should be selected from among the Pacific Island citiz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28600" y="304920"/>
            <a:ext cx="8763120" cy="63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Divide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sampling frame (list) into the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trata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(categori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.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lect a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te random sample from each stratum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proportion to the percentage of the population found in 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roportional Allocation: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electing from each stratum in proportion to its percentage of the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E.g. If 12% of a city’s citizens are Pacific Islanders, then 12% of the sample size should be selected from among the Pacific Island citiz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Advantage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: Guaranteed to be representative of each strat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Disadvantage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: Time-consuming and expensive because you must collect information about the strata-sizes in adv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4759200" y="973080"/>
            <a:ext cx="4268520" cy="5001840"/>
            <a:chOff x="4759200" y="973080"/>
            <a:chExt cx="4268520" cy="5001840"/>
          </a:xfrm>
        </p:grpSpPr>
        <p:pic>
          <p:nvPicPr>
            <p:cNvPr id="193" name="Picture 3" descr=""/>
            <p:cNvPicPr/>
            <p:nvPr/>
          </p:nvPicPr>
          <p:blipFill>
            <a:blip r:embed="rId1"/>
            <a:srcRect l="6250" t="19447" r="59980" b="28474"/>
            <a:stretch/>
          </p:blipFill>
          <p:spPr>
            <a:xfrm>
              <a:off x="4759200" y="973080"/>
              <a:ext cx="4268520" cy="495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Rectangle 4"/>
            <p:cNvSpPr/>
            <p:nvPr/>
          </p:nvSpPr>
          <p:spPr>
            <a:xfrm>
              <a:off x="4759200" y="987480"/>
              <a:ext cx="4268520" cy="49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Rectangle 5"/>
          <p:cNvSpPr/>
          <p:nvPr/>
        </p:nvSpPr>
        <p:spPr>
          <a:xfrm>
            <a:off x="0" y="0"/>
            <a:ext cx="9144000" cy="6350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1.03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366840" y="863640"/>
            <a:ext cx="51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se the avocados are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different varieti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366840" y="1176480"/>
            <a:ext cx="5219640" cy="1915920"/>
            <a:chOff x="366840" y="1176480"/>
            <a:chExt cx="5219640" cy="1915920"/>
          </a:xfrm>
        </p:grpSpPr>
        <p:sp>
          <p:nvSpPr>
            <p:cNvPr id="199" name="Text Box 9"/>
            <p:cNvSpPr/>
            <p:nvPr/>
          </p:nvSpPr>
          <p:spPr>
            <a:xfrm>
              <a:off x="366840" y="1724040"/>
              <a:ext cx="429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Hass:        1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  <a:ea typeface="Times New Roman"/>
                </a:rPr>
                <a:t>–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40        40%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0"/>
            <p:cNvSpPr/>
            <p:nvPr/>
          </p:nvSpPr>
          <p:spPr>
            <a:xfrm>
              <a:off x="5472000" y="1176480"/>
              <a:ext cx="114480" cy="1915920"/>
            </a:xfrm>
            <a:prstGeom prst="rect">
              <a:avLst/>
            </a:prstGeom>
            <a:solidFill>
              <a:srgbClr val="ff0066"/>
            </a:solid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1"/>
          <p:cNvGrpSpPr/>
          <p:nvPr/>
        </p:nvGrpSpPr>
        <p:grpSpPr>
          <a:xfrm>
            <a:off x="366840" y="2717640"/>
            <a:ext cx="5219640" cy="3233880"/>
            <a:chOff x="366840" y="2717640"/>
            <a:chExt cx="5219640" cy="3233880"/>
          </a:xfrm>
        </p:grpSpPr>
        <p:sp>
          <p:nvSpPr>
            <p:cNvPr id="202" name="Text Box 12"/>
            <p:cNvSpPr/>
            <p:nvPr/>
          </p:nvSpPr>
          <p:spPr>
            <a:xfrm>
              <a:off x="366840" y="2717640"/>
              <a:ext cx="429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Times New Roman"/>
                </a:rPr>
                <a:t>Hopkins:  71</a:t>
              </a:r>
              <a:r>
                <a:rPr b="1" lang="en-US" sz="2400" spc="-1" strike="noStrike">
                  <a:solidFill>
                    <a:srgbClr val="996633"/>
                  </a:solidFill>
                  <a:latin typeface="Times New Roman"/>
                  <a:ea typeface="Times New Roman"/>
                </a:rPr>
                <a:t>–</a:t>
              </a:r>
              <a:r>
                <a:rPr b="1" lang="en-US" sz="2400" spc="-1" strike="noStrike">
                  <a:solidFill>
                    <a:srgbClr val="996633"/>
                  </a:solidFill>
                  <a:latin typeface="Times New Roman"/>
                </a:rPr>
                <a:t>100    30%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3"/>
            <p:cNvSpPr/>
            <p:nvPr/>
          </p:nvSpPr>
          <p:spPr>
            <a:xfrm>
              <a:off x="5472000" y="4557600"/>
              <a:ext cx="114480" cy="1393920"/>
            </a:xfrm>
            <a:prstGeom prst="rect">
              <a:avLst/>
            </a:prstGeom>
            <a:solidFill>
              <a:srgbClr val="996633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14"/>
          <p:cNvGrpSpPr/>
          <p:nvPr/>
        </p:nvGrpSpPr>
        <p:grpSpPr>
          <a:xfrm>
            <a:off x="366840" y="2220840"/>
            <a:ext cx="5219640" cy="2293920"/>
            <a:chOff x="366840" y="2220840"/>
            <a:chExt cx="5219640" cy="2293920"/>
          </a:xfrm>
        </p:grpSpPr>
        <p:sp>
          <p:nvSpPr>
            <p:cNvPr id="205" name="Text Box 15"/>
            <p:cNvSpPr/>
            <p:nvPr/>
          </p:nvSpPr>
          <p:spPr>
            <a:xfrm>
              <a:off x="366840" y="2220840"/>
              <a:ext cx="429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Fuerte:     41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70      30%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6"/>
            <p:cNvSpPr/>
            <p:nvPr/>
          </p:nvSpPr>
          <p:spPr>
            <a:xfrm>
              <a:off x="5472000" y="3105000"/>
              <a:ext cx="114480" cy="1409760"/>
            </a:xfrm>
            <a:prstGeom prst="rect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366840" y="3214800"/>
            <a:ext cx="425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umber in each strata of the sample should be proportional to the number in each group in the popul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366840" y="4799160"/>
            <a:ext cx="27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Hass:       40%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9"/>
          <p:cNvSpPr/>
          <p:nvPr/>
        </p:nvSpPr>
        <p:spPr>
          <a:xfrm>
            <a:off x="366840" y="5299200"/>
            <a:ext cx="271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Fuerte:     30%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366840" y="5800680"/>
            <a:ext cx="271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Hopkins:  30% </a:t>
            </a: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 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1"/>
          <p:cNvSpPr/>
          <p:nvPr/>
        </p:nvSpPr>
        <p:spPr>
          <a:xfrm>
            <a:off x="401760" y="-1908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atified sampl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2"/>
          <p:cNvSpPr/>
          <p:nvPr/>
        </p:nvSpPr>
        <p:spPr>
          <a:xfrm>
            <a:off x="2851200" y="4799160"/>
            <a:ext cx="27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= 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2851200" y="5299200"/>
            <a:ext cx="27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= 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4"/>
          <p:cNvSpPr/>
          <p:nvPr/>
        </p:nvSpPr>
        <p:spPr>
          <a:xfrm>
            <a:off x="2851200" y="5800680"/>
            <a:ext cx="23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= 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4759200" y="973080"/>
            <a:ext cx="4268520" cy="5001840"/>
            <a:chOff x="4759200" y="973080"/>
            <a:chExt cx="4268520" cy="5001840"/>
          </a:xfrm>
        </p:grpSpPr>
        <p:pic>
          <p:nvPicPr>
            <p:cNvPr id="216" name="Picture 3" descr=""/>
            <p:cNvPicPr/>
            <p:nvPr/>
          </p:nvPicPr>
          <p:blipFill>
            <a:blip r:embed="rId1"/>
            <a:srcRect l="6250" t="19447" r="59980" b="28474"/>
            <a:stretch/>
          </p:blipFill>
          <p:spPr>
            <a:xfrm>
              <a:off x="4759200" y="973080"/>
              <a:ext cx="4268520" cy="495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Rectangle 4"/>
            <p:cNvSpPr/>
            <p:nvPr/>
          </p:nvSpPr>
          <p:spPr>
            <a:xfrm>
              <a:off x="4759200" y="987480"/>
              <a:ext cx="4268520" cy="49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Rectangle 5"/>
          <p:cNvSpPr/>
          <p:nvPr/>
        </p:nvSpPr>
        <p:spPr>
          <a:xfrm>
            <a:off x="0" y="0"/>
            <a:ext cx="9144000" cy="6350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1.03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366840" y="863640"/>
            <a:ext cx="51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us generate random numbers as follow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5472000" y="1176480"/>
            <a:ext cx="114480" cy="1915920"/>
          </a:xfrm>
          <a:prstGeom prst="rect">
            <a:avLst/>
          </a:prstGeom>
          <a:solidFill>
            <a:srgbClr val="ff0066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5472000" y="4557600"/>
            <a:ext cx="114480" cy="1393920"/>
          </a:xfrm>
          <a:prstGeom prst="rect">
            <a:avLst/>
          </a:prstGeom>
          <a:solidFill>
            <a:srgbClr val="996633"/>
          </a:soli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5472000" y="3105000"/>
            <a:ext cx="114480" cy="1409760"/>
          </a:xfrm>
          <a:prstGeom prst="rect">
            <a:avLst/>
          </a:prstGeom>
          <a:solidFill>
            <a:srgbClr val="008000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366840" y="1870200"/>
            <a:ext cx="449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Hass:        1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40        8 random n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366840" y="2279520"/>
            <a:ext cx="42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33  17  12  25  9  9  33  16  39  8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366840" y="2841480"/>
            <a:ext cx="441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Fuerte:     41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70      6 random n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366840" y="3249720"/>
            <a:ext cx="38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8  59  67  43  53  5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366840" y="3811680"/>
            <a:ext cx="451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Hopkins:  71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100    6 random n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366840" y="4219560"/>
            <a:ext cx="31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98  85  96  99  90  8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401760" y="-1908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atified sampl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8"/>
          <p:cNvSpPr/>
          <p:nvPr/>
        </p:nvSpPr>
        <p:spPr>
          <a:xfrm>
            <a:off x="2743200" y="2293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9"/>
          <p:cNvGrpSpPr/>
          <p:nvPr/>
        </p:nvGrpSpPr>
        <p:grpSpPr>
          <a:xfrm>
            <a:off x="2539800" y="2322360"/>
            <a:ext cx="682920" cy="347760"/>
            <a:chOff x="2539800" y="2322360"/>
            <a:chExt cx="682920" cy="347760"/>
          </a:xfrm>
        </p:grpSpPr>
        <p:sp>
          <p:nvSpPr>
            <p:cNvPr id="233" name="Line 20"/>
            <p:cNvSpPr/>
            <p:nvPr/>
          </p:nvSpPr>
          <p:spPr>
            <a:xfrm flipH="1">
              <a:off x="2539800" y="2322360"/>
              <a:ext cx="261720" cy="3477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21"/>
            <p:cNvSpPr/>
            <p:nvPr/>
          </p:nvSpPr>
          <p:spPr>
            <a:xfrm flipH="1">
              <a:off x="2960640" y="2322360"/>
              <a:ext cx="262080" cy="3477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Rectangle 22"/>
          <p:cNvSpPr/>
          <p:nvPr/>
        </p:nvSpPr>
        <p:spPr>
          <a:xfrm>
            <a:off x="6245280" y="3340080"/>
            <a:ext cx="345960" cy="2430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3"/>
          <p:cNvSpPr/>
          <p:nvPr/>
        </p:nvSpPr>
        <p:spPr>
          <a:xfrm>
            <a:off x="7983360" y="3803760"/>
            <a:ext cx="346320" cy="2426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4"/>
          <p:cNvSpPr/>
          <p:nvPr/>
        </p:nvSpPr>
        <p:spPr>
          <a:xfrm>
            <a:off x="7647120" y="4282920"/>
            <a:ext cx="345960" cy="2430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5"/>
          <p:cNvSpPr/>
          <p:nvPr/>
        </p:nvSpPr>
        <p:spPr>
          <a:xfrm>
            <a:off x="8317080" y="3803760"/>
            <a:ext cx="345960" cy="2426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6"/>
          <p:cNvSpPr/>
          <p:nvPr/>
        </p:nvSpPr>
        <p:spPr>
          <a:xfrm>
            <a:off x="7289640" y="5719680"/>
            <a:ext cx="346320" cy="243000"/>
          </a:xfrm>
          <a:prstGeom prst="rect">
            <a:avLst/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7"/>
          <p:cNvSpPr/>
          <p:nvPr/>
        </p:nvSpPr>
        <p:spPr>
          <a:xfrm>
            <a:off x="7997760" y="5719680"/>
            <a:ext cx="346320" cy="243000"/>
          </a:xfrm>
          <a:prstGeom prst="rect">
            <a:avLst/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8"/>
          <p:cNvSpPr/>
          <p:nvPr/>
        </p:nvSpPr>
        <p:spPr>
          <a:xfrm>
            <a:off x="8664480" y="5246640"/>
            <a:ext cx="346320" cy="243000"/>
          </a:xfrm>
          <a:prstGeom prst="rect">
            <a:avLst/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9"/>
          <p:cNvSpPr/>
          <p:nvPr/>
        </p:nvSpPr>
        <p:spPr>
          <a:xfrm>
            <a:off x="6951600" y="5246640"/>
            <a:ext cx="345960" cy="243000"/>
          </a:xfrm>
          <a:prstGeom prst="rect">
            <a:avLst/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0"/>
          <p:cNvSpPr/>
          <p:nvPr/>
        </p:nvSpPr>
        <p:spPr>
          <a:xfrm>
            <a:off x="8317080" y="5719680"/>
            <a:ext cx="345960" cy="243000"/>
          </a:xfrm>
          <a:prstGeom prst="rect">
            <a:avLst/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1"/>
          <p:cNvSpPr/>
          <p:nvPr/>
        </p:nvSpPr>
        <p:spPr>
          <a:xfrm>
            <a:off x="5911920" y="1882800"/>
            <a:ext cx="345960" cy="2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2"/>
          <p:cNvSpPr/>
          <p:nvPr/>
        </p:nvSpPr>
        <p:spPr>
          <a:xfrm>
            <a:off x="6256440" y="2846520"/>
            <a:ext cx="345960" cy="24264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3"/>
          <p:cNvSpPr/>
          <p:nvPr/>
        </p:nvSpPr>
        <p:spPr>
          <a:xfrm>
            <a:off x="8332920" y="1395360"/>
            <a:ext cx="345960" cy="2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4"/>
          <p:cNvSpPr/>
          <p:nvPr/>
        </p:nvSpPr>
        <p:spPr>
          <a:xfrm>
            <a:off x="7632720" y="1882800"/>
            <a:ext cx="345960" cy="2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5"/>
          <p:cNvSpPr/>
          <p:nvPr/>
        </p:nvSpPr>
        <p:spPr>
          <a:xfrm>
            <a:off x="6937200" y="2368440"/>
            <a:ext cx="346320" cy="2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6"/>
          <p:cNvSpPr/>
          <p:nvPr/>
        </p:nvSpPr>
        <p:spPr>
          <a:xfrm>
            <a:off x="7272360" y="1882800"/>
            <a:ext cx="345960" cy="2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7"/>
          <p:cNvSpPr/>
          <p:nvPr/>
        </p:nvSpPr>
        <p:spPr>
          <a:xfrm>
            <a:off x="8317080" y="2846520"/>
            <a:ext cx="345960" cy="24264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8"/>
          <p:cNvSpPr/>
          <p:nvPr/>
        </p:nvSpPr>
        <p:spPr>
          <a:xfrm>
            <a:off x="7983360" y="1395360"/>
            <a:ext cx="346320" cy="2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9"/>
          <p:cNvSpPr/>
          <p:nvPr/>
        </p:nvSpPr>
        <p:spPr>
          <a:xfrm>
            <a:off x="6245280" y="3805200"/>
            <a:ext cx="345960" cy="2430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0"/>
          <p:cNvSpPr/>
          <p:nvPr/>
        </p:nvSpPr>
        <p:spPr>
          <a:xfrm>
            <a:off x="7305840" y="3805200"/>
            <a:ext cx="345960" cy="2430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1"/>
          <p:cNvSpPr/>
          <p:nvPr/>
        </p:nvSpPr>
        <p:spPr>
          <a:xfrm>
            <a:off x="5634000" y="5248440"/>
            <a:ext cx="345960" cy="242640"/>
          </a:xfrm>
          <a:prstGeom prst="rect">
            <a:avLst/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42"/>
          <p:cNvSpPr/>
          <p:nvPr/>
        </p:nvSpPr>
        <p:spPr>
          <a:xfrm>
            <a:off x="449280" y="2670120"/>
            <a:ext cx="3207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43"/>
          <p:cNvSpPr/>
          <p:nvPr/>
        </p:nvSpPr>
        <p:spPr>
          <a:xfrm>
            <a:off x="912960" y="2670120"/>
            <a:ext cx="3204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44"/>
          <p:cNvSpPr/>
          <p:nvPr/>
        </p:nvSpPr>
        <p:spPr>
          <a:xfrm>
            <a:off x="1376280" y="2670120"/>
            <a:ext cx="3207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45"/>
          <p:cNvSpPr/>
          <p:nvPr/>
        </p:nvSpPr>
        <p:spPr>
          <a:xfrm>
            <a:off x="1827360" y="2670120"/>
            <a:ext cx="3204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46"/>
          <p:cNvSpPr/>
          <p:nvPr/>
        </p:nvSpPr>
        <p:spPr>
          <a:xfrm>
            <a:off x="2203560" y="2670120"/>
            <a:ext cx="3204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47"/>
          <p:cNvSpPr/>
          <p:nvPr/>
        </p:nvSpPr>
        <p:spPr>
          <a:xfrm>
            <a:off x="3365640" y="2670120"/>
            <a:ext cx="3204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48"/>
          <p:cNvSpPr/>
          <p:nvPr/>
        </p:nvSpPr>
        <p:spPr>
          <a:xfrm>
            <a:off x="3786120" y="2670120"/>
            <a:ext cx="3207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49"/>
          <p:cNvSpPr/>
          <p:nvPr/>
        </p:nvSpPr>
        <p:spPr>
          <a:xfrm>
            <a:off x="4221000" y="2670120"/>
            <a:ext cx="3207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50"/>
          <p:cNvSpPr/>
          <p:nvPr/>
        </p:nvSpPr>
        <p:spPr>
          <a:xfrm>
            <a:off x="449280" y="3686040"/>
            <a:ext cx="32076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51"/>
          <p:cNvSpPr/>
          <p:nvPr/>
        </p:nvSpPr>
        <p:spPr>
          <a:xfrm>
            <a:off x="912960" y="3686040"/>
            <a:ext cx="3204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52"/>
          <p:cNvSpPr/>
          <p:nvPr/>
        </p:nvSpPr>
        <p:spPr>
          <a:xfrm>
            <a:off x="1376280" y="3686040"/>
            <a:ext cx="32076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3"/>
          <p:cNvSpPr/>
          <p:nvPr/>
        </p:nvSpPr>
        <p:spPr>
          <a:xfrm>
            <a:off x="1827360" y="3686040"/>
            <a:ext cx="3204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54"/>
          <p:cNvSpPr/>
          <p:nvPr/>
        </p:nvSpPr>
        <p:spPr>
          <a:xfrm>
            <a:off x="2305080" y="3686040"/>
            <a:ext cx="32076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5"/>
          <p:cNvSpPr/>
          <p:nvPr/>
        </p:nvSpPr>
        <p:spPr>
          <a:xfrm>
            <a:off x="2786040" y="3686040"/>
            <a:ext cx="32076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6"/>
          <p:cNvSpPr/>
          <p:nvPr/>
        </p:nvSpPr>
        <p:spPr>
          <a:xfrm>
            <a:off x="449280" y="4630680"/>
            <a:ext cx="3207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7"/>
          <p:cNvSpPr/>
          <p:nvPr/>
        </p:nvSpPr>
        <p:spPr>
          <a:xfrm>
            <a:off x="912960" y="4630680"/>
            <a:ext cx="32040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8"/>
          <p:cNvSpPr/>
          <p:nvPr/>
        </p:nvSpPr>
        <p:spPr>
          <a:xfrm>
            <a:off x="1376280" y="4630680"/>
            <a:ext cx="3207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9"/>
          <p:cNvSpPr/>
          <p:nvPr/>
        </p:nvSpPr>
        <p:spPr>
          <a:xfrm>
            <a:off x="1827360" y="4630680"/>
            <a:ext cx="32040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0"/>
          <p:cNvSpPr/>
          <p:nvPr/>
        </p:nvSpPr>
        <p:spPr>
          <a:xfrm>
            <a:off x="2305080" y="4630680"/>
            <a:ext cx="3207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61"/>
          <p:cNvSpPr/>
          <p:nvPr/>
        </p:nvSpPr>
        <p:spPr>
          <a:xfrm>
            <a:off x="2786040" y="4630680"/>
            <a:ext cx="3207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luster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28600" y="914400"/>
            <a:ext cx="876312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Use when the population is distributed into naturally-occurring groups or ‘cluster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luster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28600" y="914400"/>
            <a:ext cx="876312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Use when the population is distributed into naturally-occurring groups or ‘clusters’ 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(e.g. towns and cities in a country,  purchases from a national franchise like Noel Leemings can be grouped by retail outlet)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Basic cluster sampling consists of 2 stages of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Stage 1:  Select the clus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elect a representative sample of the clusters themselves (usually there are too many to sample from all of th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Stage 2:  Select the items within chosen clus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elect a random sample of items from within each chosen cluster,  maintaining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proportional allocatio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luster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28600" y="914400"/>
            <a:ext cx="876312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Basic cluster sampling consists of 2 stages of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Stage 1:  Select the clus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elect a representative sample of the clusters themselves (usually there are too many to sample from all of th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Stage 2:  Select the items within chosen clus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elect a random sample of items from within each chosen cluster,  maintaining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proportional allocatio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E.g. Selecting samples of New Zealanders by selecting a sample of towns/cities from throughout the country, then a proportional random sample from within 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228600" y="0"/>
            <a:ext cx="876312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Basic cluster sampling consists of 2 stages of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Stage 1:  Select the clus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elect a representative sample of the clusters themselves (usually there are too many to sample from all of th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Stage 2:  Select the items within chosen clus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elect a random sample of items from within each chosen cluster,  maintaining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proportional allocatio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E.g. Selecting samples of New Zealanders by selecting a sample of towns/cities from throughout the country, then a proportional random sample from within 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Multi-stage cluster sampling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he 4 Sampling techniques</a:t>
            </a:r>
            <a:br>
              <a:rPr sz="4400"/>
            </a:br>
            <a:br>
              <a:rPr sz="1600"/>
            </a:b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Review and Critical 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85840" y="2857680"/>
            <a:ext cx="885816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KILL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Memorise the descriptions of: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Simple Random, Stratified, Cluster, Systematic, especially the </a:t>
            </a:r>
            <a:r>
              <a:rPr b="0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advantages &amp; disadvantages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f using each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ead notes on the next few slides (memorise key poin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Old Sigma: Ex. 9.2–Q1, Ex. 9.3, Ex. 24.9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28600" y="0"/>
            <a:ext cx="876312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Basic cluster sampling consists of 2 stages of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Stage 1:  Select the clus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elect a representative sample of the clusters themselves (usually there are too many to sample from all of th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Stage 2:  Select the items within chosen clus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elect a random sample of items from within each chosen cluster,  maintaining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proportional allocatio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E.g. Selecting samples of New Zealanders by selecting a sample of towns/cities from throughout the country, then a proportional random sample from within 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Multi-stage cluster sampling: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n reality, most cluster sampling for real-life research uses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more than 2 st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228600" y="-360"/>
            <a:ext cx="8763120" cy="662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9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 u="sng">
                <a:solidFill>
                  <a:srgbClr val="000000"/>
                </a:solidFill>
                <a:uFillTx/>
                <a:latin typeface="Comic Sans MS"/>
              </a:rPr>
              <a:t>Stage 1:  Select the cluster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Select a representative sample of the clusters themselves (usually there are too many to sample from all of th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Stage 2:  Select the items within chosen clust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Select a random sample of items from within each chosen cluster,  maintaining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proportional alloca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E.g. Selecting samples of New Zealanders by selecting a sample of towns/cities from throughout the country, then a proportional random sample from within e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ulti-stage cluster sampling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n reality, most cluster sampling for real-life research use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more than 2 st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E.g. select a sample of cities, then a sample of suburbs from within each chosen city, then a sample of streets from each chosen suburb, then a sample of houses within each chosen street (4-stages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-360"/>
            <a:ext cx="8763120" cy="662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Stage 2:  Select the items within chosen clust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Select a random sample of items from within each chosen cluster,  maintaining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proportional alloca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E.g. Selecting samples of New Zealanders by selecting a sample of towns/cities from throughout the country, then a proportional random sample from within e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ulti-stage cluster sampling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n reality, most cluster sampling for real-life research use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more than 2 st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E.g. select a sample of cities, then a sample of suburbs from within each chosen city, then a sample of streets from each chosen suburb, then a sample of houses within each chosen street (4-stages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Advantage of cluster samp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ata-collection process convenient, particularly if sampling from a geographically large area (data can be collected in groups within chosen clusters rather than being spread ou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380880" y="142560"/>
            <a:ext cx="8763120" cy="671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E.g. select a sample of cities, then a sample of suburbs from within each chosen city, then a sample of streets from each chosen suburb, then a sample of houses within each chosen street (4-stages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Advantage of cluster samp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ata-collection process convenient, particularly if sampling from a geographically large area (data can be collected in groups within chosen clusters rather than being spread ou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Disadvantages of cluster samp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otential bias as items don’t have an equal chance of se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452520"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Very small clusters are unlikely to be sampled fr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452520"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tems that are not in clusters are excluded al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452520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.g. farmers or people in small rural communities may have no chance of being selected for a national survey of household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under-estimate the variation in the population when you sample items within clusters - items that are close together </a:t>
            </a:r>
            <a:r>
              <a:rPr b="1" i="1" lang="en-NZ" sz="2400" spc="-1" strike="noStrike">
                <a:solidFill>
                  <a:srgbClr val="000000"/>
                </a:solidFill>
                <a:latin typeface="Arial"/>
              </a:rPr>
              <a:t>may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have similar characteris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equires prior knowledge of cluster siz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"/>
          <p:cNvSpPr/>
          <p:nvPr/>
        </p:nvSpPr>
        <p:spPr>
          <a:xfrm>
            <a:off x="179280" y="333360"/>
            <a:ext cx="8785440" cy="4283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Arial"/>
              </a:rPr>
              <a:t>Practice for scholarship questions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Arial"/>
              </a:rPr>
              <a:t>1. Memorise the 4 types of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Arial"/>
              </a:rPr>
              <a:t>sampling techniques and the advantages &amp; disadvantages of each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500" spc="-1" strike="noStrike">
                <a:solidFill>
                  <a:srgbClr val="000000"/>
                </a:solidFill>
                <a:latin typeface="Arial"/>
              </a:rPr>
              <a:t>(*asked in scholarship exam every year!*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Arial"/>
              </a:rPr>
              <a:t>2. Do Old Sigma (2</a:t>
            </a:r>
            <a:r>
              <a:rPr b="1" lang="en-NZ" sz="25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NZ" sz="2500" spc="-1" strike="noStrike">
                <a:solidFill>
                  <a:srgbClr val="000000"/>
                </a:solidFill>
                <a:latin typeface="Arial"/>
              </a:rPr>
              <a:t> edition):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500" spc="-1" strike="noStrike">
                <a:solidFill>
                  <a:srgbClr val="000000"/>
                </a:solidFill>
                <a:latin typeface="Arial"/>
              </a:rPr>
              <a:t>Pg. 137 – Ex. 9.3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Arial"/>
              </a:rPr>
              <a:t>3. Then pg. 399 – Ex. 24.9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4759200" y="973080"/>
            <a:ext cx="4268520" cy="5001840"/>
            <a:chOff x="4759200" y="973080"/>
            <a:chExt cx="4268520" cy="5001840"/>
          </a:xfrm>
        </p:grpSpPr>
        <p:pic>
          <p:nvPicPr>
            <p:cNvPr id="288" name="Picture 3" descr=""/>
            <p:cNvPicPr/>
            <p:nvPr/>
          </p:nvPicPr>
          <p:blipFill>
            <a:blip r:embed="rId1"/>
            <a:srcRect l="6250" t="19447" r="59980" b="28474"/>
            <a:stretch/>
          </p:blipFill>
          <p:spPr>
            <a:xfrm>
              <a:off x="4759200" y="973080"/>
              <a:ext cx="4268520" cy="495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Rectangle 4"/>
            <p:cNvSpPr/>
            <p:nvPr/>
          </p:nvSpPr>
          <p:spPr>
            <a:xfrm>
              <a:off x="4759200" y="987480"/>
              <a:ext cx="4268520" cy="49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5"/>
          <p:cNvSpPr/>
          <p:nvPr/>
        </p:nvSpPr>
        <p:spPr>
          <a:xfrm>
            <a:off x="0" y="0"/>
            <a:ext cx="9144000" cy="6350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1.03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506520" y="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uster sampl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8"/>
          <p:cNvGrpSpPr/>
          <p:nvPr/>
        </p:nvGrpSpPr>
        <p:grpSpPr>
          <a:xfrm>
            <a:off x="5573880" y="1860480"/>
            <a:ext cx="1055160" cy="1214640"/>
            <a:chOff x="5573880" y="1860480"/>
            <a:chExt cx="1055160" cy="1214640"/>
          </a:xfrm>
        </p:grpSpPr>
        <p:sp>
          <p:nvSpPr>
            <p:cNvPr id="294" name="Rectangle 9"/>
            <p:cNvSpPr/>
            <p:nvPr/>
          </p:nvSpPr>
          <p:spPr>
            <a:xfrm>
              <a:off x="5925960" y="2354400"/>
              <a:ext cx="345960" cy="24264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0"/>
            <p:cNvSpPr/>
            <p:nvPr/>
          </p:nvSpPr>
          <p:spPr>
            <a:xfrm>
              <a:off x="5922720" y="1860480"/>
              <a:ext cx="345960" cy="24300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1"/>
            <p:cNvSpPr/>
            <p:nvPr/>
          </p:nvSpPr>
          <p:spPr>
            <a:xfrm>
              <a:off x="5922720" y="2832120"/>
              <a:ext cx="345960" cy="24300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2"/>
            <p:cNvSpPr/>
            <p:nvPr/>
          </p:nvSpPr>
          <p:spPr>
            <a:xfrm>
              <a:off x="6283080" y="2354400"/>
              <a:ext cx="345960" cy="24264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3"/>
            <p:cNvSpPr/>
            <p:nvPr/>
          </p:nvSpPr>
          <p:spPr>
            <a:xfrm>
              <a:off x="5573880" y="2354400"/>
              <a:ext cx="345960" cy="24264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14"/>
          <p:cNvGrpSpPr/>
          <p:nvPr/>
        </p:nvGrpSpPr>
        <p:grpSpPr>
          <a:xfrm>
            <a:off x="7648560" y="3805200"/>
            <a:ext cx="1055880" cy="1214640"/>
            <a:chOff x="7648560" y="3805200"/>
            <a:chExt cx="1055880" cy="1214640"/>
          </a:xfrm>
        </p:grpSpPr>
        <p:sp>
          <p:nvSpPr>
            <p:cNvPr id="300" name="Rectangle 15"/>
            <p:cNvSpPr/>
            <p:nvPr/>
          </p:nvSpPr>
          <p:spPr>
            <a:xfrm>
              <a:off x="8001000" y="4299120"/>
              <a:ext cx="346320" cy="242640"/>
            </a:xfrm>
            <a:prstGeom prst="rect">
              <a:avLst/>
            </a:prstGeom>
            <a:noFill/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6"/>
            <p:cNvSpPr/>
            <p:nvPr/>
          </p:nvSpPr>
          <p:spPr>
            <a:xfrm>
              <a:off x="7997760" y="3805200"/>
              <a:ext cx="346320" cy="243000"/>
            </a:xfrm>
            <a:prstGeom prst="rect">
              <a:avLst/>
            </a:prstGeom>
            <a:noFill/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7"/>
            <p:cNvSpPr/>
            <p:nvPr/>
          </p:nvSpPr>
          <p:spPr>
            <a:xfrm>
              <a:off x="7997760" y="4776840"/>
              <a:ext cx="346320" cy="243000"/>
            </a:xfrm>
            <a:prstGeom prst="rect">
              <a:avLst/>
            </a:prstGeom>
            <a:noFill/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8"/>
            <p:cNvSpPr/>
            <p:nvPr/>
          </p:nvSpPr>
          <p:spPr>
            <a:xfrm>
              <a:off x="8358120" y="4299120"/>
              <a:ext cx="346320" cy="242640"/>
            </a:xfrm>
            <a:prstGeom prst="rect">
              <a:avLst/>
            </a:prstGeom>
            <a:noFill/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9"/>
            <p:cNvSpPr/>
            <p:nvPr/>
          </p:nvSpPr>
          <p:spPr>
            <a:xfrm>
              <a:off x="7648560" y="4299120"/>
              <a:ext cx="346320" cy="242640"/>
            </a:xfrm>
            <a:prstGeom prst="rect">
              <a:avLst/>
            </a:prstGeom>
            <a:noFill/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20"/>
          <p:cNvGrpSpPr/>
          <p:nvPr/>
        </p:nvGrpSpPr>
        <p:grpSpPr>
          <a:xfrm>
            <a:off x="5557680" y="915840"/>
            <a:ext cx="1055880" cy="1214640"/>
            <a:chOff x="5557680" y="915840"/>
            <a:chExt cx="1055880" cy="1214640"/>
          </a:xfrm>
        </p:grpSpPr>
        <p:sp>
          <p:nvSpPr>
            <p:cNvPr id="306" name="Rectangle 21"/>
            <p:cNvSpPr/>
            <p:nvPr/>
          </p:nvSpPr>
          <p:spPr>
            <a:xfrm>
              <a:off x="5910120" y="1409760"/>
              <a:ext cx="346320" cy="242640"/>
            </a:xfrm>
            <a:prstGeom prst="rect">
              <a:avLst/>
            </a:prstGeom>
            <a:noFill/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22"/>
            <p:cNvSpPr/>
            <p:nvPr/>
          </p:nvSpPr>
          <p:spPr>
            <a:xfrm>
              <a:off x="5906880" y="915840"/>
              <a:ext cx="346320" cy="243000"/>
            </a:xfrm>
            <a:prstGeom prst="rect">
              <a:avLst/>
            </a:prstGeom>
            <a:noFill/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3"/>
            <p:cNvSpPr/>
            <p:nvPr/>
          </p:nvSpPr>
          <p:spPr>
            <a:xfrm>
              <a:off x="5906880" y="1887480"/>
              <a:ext cx="346320" cy="243000"/>
            </a:xfrm>
            <a:prstGeom prst="rect">
              <a:avLst/>
            </a:prstGeom>
            <a:noFill/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4"/>
            <p:cNvSpPr/>
            <p:nvPr/>
          </p:nvSpPr>
          <p:spPr>
            <a:xfrm>
              <a:off x="6267240" y="1409760"/>
              <a:ext cx="346320" cy="242640"/>
            </a:xfrm>
            <a:prstGeom prst="rect">
              <a:avLst/>
            </a:prstGeom>
            <a:noFill/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25"/>
            <p:cNvSpPr/>
            <p:nvPr/>
          </p:nvSpPr>
          <p:spPr>
            <a:xfrm>
              <a:off x="5557680" y="1409760"/>
              <a:ext cx="346320" cy="242640"/>
            </a:xfrm>
            <a:prstGeom prst="rect">
              <a:avLst/>
            </a:prstGeom>
            <a:noFill/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26"/>
          <p:cNvGrpSpPr/>
          <p:nvPr/>
        </p:nvGrpSpPr>
        <p:grpSpPr>
          <a:xfrm>
            <a:off x="6953400" y="3327480"/>
            <a:ext cx="1055160" cy="1213920"/>
            <a:chOff x="6953400" y="3327480"/>
            <a:chExt cx="1055160" cy="1213920"/>
          </a:xfrm>
        </p:grpSpPr>
        <p:sp>
          <p:nvSpPr>
            <p:cNvPr id="312" name="Rectangle 27"/>
            <p:cNvSpPr/>
            <p:nvPr/>
          </p:nvSpPr>
          <p:spPr>
            <a:xfrm>
              <a:off x="7305480" y="3821040"/>
              <a:ext cx="345960" cy="2422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8"/>
            <p:cNvSpPr/>
            <p:nvPr/>
          </p:nvSpPr>
          <p:spPr>
            <a:xfrm>
              <a:off x="7302240" y="3327480"/>
              <a:ext cx="345960" cy="2426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7302240" y="4298760"/>
              <a:ext cx="345960" cy="2426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7662600" y="3821040"/>
              <a:ext cx="345960" cy="2422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31"/>
            <p:cNvSpPr/>
            <p:nvPr/>
          </p:nvSpPr>
          <p:spPr>
            <a:xfrm>
              <a:off x="6953400" y="3821040"/>
              <a:ext cx="345960" cy="24228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32"/>
          <p:cNvGrpSpPr/>
          <p:nvPr/>
        </p:nvGrpSpPr>
        <p:grpSpPr>
          <a:xfrm>
            <a:off x="5589720" y="3805200"/>
            <a:ext cx="1055160" cy="1214640"/>
            <a:chOff x="5589720" y="3805200"/>
            <a:chExt cx="1055160" cy="1214640"/>
          </a:xfrm>
        </p:grpSpPr>
        <p:sp>
          <p:nvSpPr>
            <p:cNvPr id="318" name="Rectangle 33"/>
            <p:cNvSpPr/>
            <p:nvPr/>
          </p:nvSpPr>
          <p:spPr>
            <a:xfrm>
              <a:off x="5941800" y="4299120"/>
              <a:ext cx="345960" cy="242640"/>
            </a:xfrm>
            <a:prstGeom prst="rect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34"/>
            <p:cNvSpPr/>
            <p:nvPr/>
          </p:nvSpPr>
          <p:spPr>
            <a:xfrm>
              <a:off x="5938560" y="3805200"/>
              <a:ext cx="345960" cy="243000"/>
            </a:xfrm>
            <a:prstGeom prst="rect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35"/>
            <p:cNvSpPr/>
            <p:nvPr/>
          </p:nvSpPr>
          <p:spPr>
            <a:xfrm>
              <a:off x="5938560" y="4776840"/>
              <a:ext cx="345960" cy="243000"/>
            </a:xfrm>
            <a:prstGeom prst="rect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36"/>
            <p:cNvSpPr/>
            <p:nvPr/>
          </p:nvSpPr>
          <p:spPr>
            <a:xfrm>
              <a:off x="6298920" y="4299120"/>
              <a:ext cx="345960" cy="242640"/>
            </a:xfrm>
            <a:prstGeom prst="rect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37"/>
            <p:cNvSpPr/>
            <p:nvPr/>
          </p:nvSpPr>
          <p:spPr>
            <a:xfrm>
              <a:off x="5589720" y="4299120"/>
              <a:ext cx="345960" cy="242640"/>
            </a:xfrm>
            <a:prstGeom prst="rect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Text Box 38"/>
          <p:cNvSpPr/>
          <p:nvPr/>
        </p:nvSpPr>
        <p:spPr>
          <a:xfrm>
            <a:off x="366840" y="1708200"/>
            <a:ext cx="429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ose four clusters, each of 5 avocados, by selecting four numbers at random from the data, and taking them as the middle item of a ‘cross’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9"/>
          <p:cNvSpPr/>
          <p:nvPr/>
        </p:nvSpPr>
        <p:spPr>
          <a:xfrm>
            <a:off x="366840" y="5216400"/>
            <a:ext cx="50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2    22   2    68    5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0"/>
          <p:cNvSpPr/>
          <p:nvPr/>
        </p:nvSpPr>
        <p:spPr>
          <a:xfrm>
            <a:off x="366840" y="3570120"/>
            <a:ext cx="500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clusters overlap or run outsid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boundaries, choose anoth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41"/>
          <p:cNvSpPr/>
          <p:nvPr/>
        </p:nvSpPr>
        <p:spPr>
          <a:xfrm>
            <a:off x="366840" y="5670720"/>
            <a:ext cx="854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ote: Depending how a cluster is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efined, it can exclude some items or make other items more likely to be chosen than under other sampling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2"/>
          <p:cNvSpPr/>
          <p:nvPr/>
        </p:nvSpPr>
        <p:spPr>
          <a:xfrm>
            <a:off x="366840" y="863640"/>
            <a:ext cx="518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re is one way of obtaining 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uster sample of size 2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43"/>
          <p:cNvSpPr/>
          <p:nvPr/>
        </p:nvSpPr>
        <p:spPr>
          <a:xfrm flipH="1">
            <a:off x="1508040" y="5227560"/>
            <a:ext cx="333360" cy="50796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4"/>
          <p:cNvSpPr/>
          <p:nvPr/>
        </p:nvSpPr>
        <p:spPr>
          <a:xfrm>
            <a:off x="366840" y="4346640"/>
            <a:ext cx="500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readsheet formul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RAN# + 1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45"/>
          <p:cNvSpPr/>
          <p:nvPr/>
        </p:nvSpPr>
        <p:spPr>
          <a:xfrm>
            <a:off x="449280" y="5616720"/>
            <a:ext cx="37764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46"/>
          <p:cNvSpPr/>
          <p:nvPr/>
        </p:nvSpPr>
        <p:spPr>
          <a:xfrm>
            <a:off x="1015920" y="5616720"/>
            <a:ext cx="37800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47"/>
          <p:cNvSpPr/>
          <p:nvPr/>
        </p:nvSpPr>
        <p:spPr>
          <a:xfrm>
            <a:off x="1450800" y="5616720"/>
            <a:ext cx="378000" cy="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48"/>
          <p:cNvSpPr/>
          <p:nvPr/>
        </p:nvSpPr>
        <p:spPr>
          <a:xfrm>
            <a:off x="2016000" y="5616720"/>
            <a:ext cx="378000" cy="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49"/>
          <p:cNvSpPr/>
          <p:nvPr/>
        </p:nvSpPr>
        <p:spPr>
          <a:xfrm>
            <a:off x="2625840" y="5616720"/>
            <a:ext cx="37764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404640" y="522360"/>
            <a:ext cx="7355160" cy="6335640"/>
            <a:chOff x="404640" y="522360"/>
            <a:chExt cx="7355160" cy="6335640"/>
          </a:xfrm>
        </p:grpSpPr>
        <p:sp>
          <p:nvSpPr>
            <p:cNvPr id="336" name="Rectangle 3"/>
            <p:cNvSpPr/>
            <p:nvPr/>
          </p:nvSpPr>
          <p:spPr>
            <a:xfrm>
              <a:off x="434880" y="623880"/>
              <a:ext cx="6343920" cy="62341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4"/>
            <p:cNvSpPr/>
            <p:nvPr/>
          </p:nvSpPr>
          <p:spPr>
            <a:xfrm>
              <a:off x="404640" y="522360"/>
              <a:ext cx="39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imple random sampling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5"/>
            <p:cNvSpPr/>
            <p:nvPr/>
          </p:nvSpPr>
          <p:spPr>
            <a:xfrm>
              <a:off x="3811680" y="522360"/>
              <a:ext cx="39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ystematic sampling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6"/>
            <p:cNvSpPr/>
            <p:nvPr/>
          </p:nvSpPr>
          <p:spPr>
            <a:xfrm>
              <a:off x="3811680" y="3646440"/>
              <a:ext cx="39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luster sampling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7"/>
            <p:cNvSpPr/>
            <p:nvPr/>
          </p:nvSpPr>
          <p:spPr>
            <a:xfrm>
              <a:off x="1020600" y="3657600"/>
              <a:ext cx="255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ratified sampling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Rectangle 8"/>
          <p:cNvSpPr/>
          <p:nvPr/>
        </p:nvSpPr>
        <p:spPr>
          <a:xfrm>
            <a:off x="0" y="0"/>
            <a:ext cx="9144000" cy="6350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1.03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401760" y="-1908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rison of samp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1"/>
          <p:cNvGrpSpPr/>
          <p:nvPr/>
        </p:nvGrpSpPr>
        <p:grpSpPr>
          <a:xfrm>
            <a:off x="4038480" y="4118040"/>
            <a:ext cx="2338560" cy="2739960"/>
            <a:chOff x="4038480" y="4118040"/>
            <a:chExt cx="2338560" cy="2739960"/>
          </a:xfrm>
        </p:grpSpPr>
        <p:grpSp>
          <p:nvGrpSpPr>
            <p:cNvPr id="345" name="Group 12"/>
            <p:cNvGrpSpPr/>
            <p:nvPr/>
          </p:nvGrpSpPr>
          <p:grpSpPr>
            <a:xfrm>
              <a:off x="4038480" y="4118040"/>
              <a:ext cx="2338560" cy="2739960"/>
              <a:chOff x="4038480" y="4118040"/>
              <a:chExt cx="2338560" cy="2739960"/>
            </a:xfrm>
          </p:grpSpPr>
          <p:pic>
            <p:nvPicPr>
              <p:cNvPr id="346" name="Picture 13" descr=""/>
              <p:cNvPicPr/>
              <p:nvPr/>
            </p:nvPicPr>
            <p:blipFill>
              <a:blip r:embed="rId1"/>
              <a:srcRect l="6250" t="19447" r="59980" b="28474"/>
              <a:stretch/>
            </p:blipFill>
            <p:spPr>
              <a:xfrm>
                <a:off x="4038480" y="4118040"/>
                <a:ext cx="2338560" cy="271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7" name="Rectangle 14"/>
              <p:cNvSpPr/>
              <p:nvPr/>
            </p:nvSpPr>
            <p:spPr>
              <a:xfrm>
                <a:off x="4038480" y="4125960"/>
                <a:ext cx="2338560" cy="2732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15"/>
            <p:cNvGrpSpPr/>
            <p:nvPr/>
          </p:nvGrpSpPr>
          <p:grpSpPr>
            <a:xfrm>
              <a:off x="4484520" y="4604040"/>
              <a:ext cx="577800" cy="664920"/>
              <a:chOff x="4484520" y="4604040"/>
              <a:chExt cx="577800" cy="664920"/>
            </a:xfrm>
          </p:grpSpPr>
          <p:sp>
            <p:nvSpPr>
              <p:cNvPr id="349" name="Rectangle 16"/>
              <p:cNvSpPr/>
              <p:nvPr/>
            </p:nvSpPr>
            <p:spPr>
              <a:xfrm>
                <a:off x="4677480" y="4874400"/>
                <a:ext cx="189360" cy="132840"/>
              </a:xfrm>
              <a:prstGeom prst="rect">
                <a:avLst/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7"/>
              <p:cNvSpPr/>
              <p:nvPr/>
            </p:nvSpPr>
            <p:spPr>
              <a:xfrm>
                <a:off x="4675680" y="4604040"/>
                <a:ext cx="189360" cy="132840"/>
              </a:xfrm>
              <a:prstGeom prst="rect">
                <a:avLst/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8"/>
              <p:cNvSpPr/>
              <p:nvPr/>
            </p:nvSpPr>
            <p:spPr>
              <a:xfrm>
                <a:off x="4675680" y="5136120"/>
                <a:ext cx="189360" cy="132840"/>
              </a:xfrm>
              <a:prstGeom prst="rect">
                <a:avLst/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19"/>
              <p:cNvSpPr/>
              <p:nvPr/>
            </p:nvSpPr>
            <p:spPr>
              <a:xfrm>
                <a:off x="4872960" y="4874400"/>
                <a:ext cx="189360" cy="132840"/>
              </a:xfrm>
              <a:prstGeom prst="rect">
                <a:avLst/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20"/>
              <p:cNvSpPr/>
              <p:nvPr/>
            </p:nvSpPr>
            <p:spPr>
              <a:xfrm>
                <a:off x="4484520" y="4874400"/>
                <a:ext cx="189360" cy="132840"/>
              </a:xfrm>
              <a:prstGeom prst="rect">
                <a:avLst/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21"/>
            <p:cNvGrpSpPr/>
            <p:nvPr/>
          </p:nvGrpSpPr>
          <p:grpSpPr>
            <a:xfrm>
              <a:off x="5621400" y="5669280"/>
              <a:ext cx="577800" cy="664920"/>
              <a:chOff x="5621400" y="5669280"/>
              <a:chExt cx="577800" cy="664920"/>
            </a:xfrm>
          </p:grpSpPr>
          <p:sp>
            <p:nvSpPr>
              <p:cNvPr id="355" name="Rectangle 22"/>
              <p:cNvSpPr/>
              <p:nvPr/>
            </p:nvSpPr>
            <p:spPr>
              <a:xfrm>
                <a:off x="5814360" y="5939640"/>
                <a:ext cx="189360" cy="132840"/>
              </a:xfrm>
              <a:prstGeom prst="rect">
                <a:avLst/>
              </a:prstGeom>
              <a:noFill/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23"/>
              <p:cNvSpPr/>
              <p:nvPr/>
            </p:nvSpPr>
            <p:spPr>
              <a:xfrm>
                <a:off x="5812560" y="5669280"/>
                <a:ext cx="189360" cy="132840"/>
              </a:xfrm>
              <a:prstGeom prst="rect">
                <a:avLst/>
              </a:prstGeom>
              <a:noFill/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24"/>
              <p:cNvSpPr/>
              <p:nvPr/>
            </p:nvSpPr>
            <p:spPr>
              <a:xfrm>
                <a:off x="5812560" y="6201360"/>
                <a:ext cx="189360" cy="132840"/>
              </a:xfrm>
              <a:prstGeom prst="rect">
                <a:avLst/>
              </a:prstGeom>
              <a:noFill/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25"/>
              <p:cNvSpPr/>
              <p:nvPr/>
            </p:nvSpPr>
            <p:spPr>
              <a:xfrm>
                <a:off x="6009840" y="5939640"/>
                <a:ext cx="189360" cy="132840"/>
              </a:xfrm>
              <a:prstGeom prst="rect">
                <a:avLst/>
              </a:prstGeom>
              <a:noFill/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26"/>
              <p:cNvSpPr/>
              <p:nvPr/>
            </p:nvSpPr>
            <p:spPr>
              <a:xfrm>
                <a:off x="5621400" y="5939640"/>
                <a:ext cx="189360" cy="132840"/>
              </a:xfrm>
              <a:prstGeom prst="rect">
                <a:avLst/>
              </a:prstGeom>
              <a:noFill/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27"/>
            <p:cNvGrpSpPr/>
            <p:nvPr/>
          </p:nvGrpSpPr>
          <p:grpSpPr>
            <a:xfrm>
              <a:off x="5240520" y="5407560"/>
              <a:ext cx="577800" cy="664560"/>
              <a:chOff x="5240520" y="5407560"/>
              <a:chExt cx="577800" cy="664560"/>
            </a:xfrm>
          </p:grpSpPr>
          <p:sp>
            <p:nvSpPr>
              <p:cNvPr id="361" name="Rectangle 28"/>
              <p:cNvSpPr/>
              <p:nvPr/>
            </p:nvSpPr>
            <p:spPr>
              <a:xfrm>
                <a:off x="5433480" y="5677920"/>
                <a:ext cx="189360" cy="132840"/>
              </a:xfrm>
              <a:prstGeom prst="rect">
                <a:avLst/>
              </a:prstGeom>
              <a:noFill/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29"/>
              <p:cNvSpPr/>
              <p:nvPr/>
            </p:nvSpPr>
            <p:spPr>
              <a:xfrm>
                <a:off x="5431680" y="5407560"/>
                <a:ext cx="189360" cy="132840"/>
              </a:xfrm>
              <a:prstGeom prst="rect">
                <a:avLst/>
              </a:prstGeom>
              <a:noFill/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30"/>
              <p:cNvSpPr/>
              <p:nvPr/>
            </p:nvSpPr>
            <p:spPr>
              <a:xfrm>
                <a:off x="5431680" y="5939280"/>
                <a:ext cx="189360" cy="132840"/>
              </a:xfrm>
              <a:prstGeom prst="rect">
                <a:avLst/>
              </a:prstGeom>
              <a:noFill/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31"/>
              <p:cNvSpPr/>
              <p:nvPr/>
            </p:nvSpPr>
            <p:spPr>
              <a:xfrm>
                <a:off x="5628960" y="5677920"/>
                <a:ext cx="189360" cy="132840"/>
              </a:xfrm>
              <a:prstGeom prst="rect">
                <a:avLst/>
              </a:prstGeom>
              <a:noFill/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32"/>
              <p:cNvSpPr/>
              <p:nvPr/>
            </p:nvSpPr>
            <p:spPr>
              <a:xfrm>
                <a:off x="5240520" y="5677920"/>
                <a:ext cx="189360" cy="132840"/>
              </a:xfrm>
              <a:prstGeom prst="rect">
                <a:avLst/>
              </a:prstGeom>
              <a:noFill/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33"/>
            <p:cNvGrpSpPr/>
            <p:nvPr/>
          </p:nvGrpSpPr>
          <p:grpSpPr>
            <a:xfrm>
              <a:off x="4493160" y="5669280"/>
              <a:ext cx="577800" cy="664920"/>
              <a:chOff x="4493160" y="5669280"/>
              <a:chExt cx="577800" cy="664920"/>
            </a:xfrm>
          </p:grpSpPr>
          <p:sp>
            <p:nvSpPr>
              <p:cNvPr id="367" name="Rectangle 34"/>
              <p:cNvSpPr/>
              <p:nvPr/>
            </p:nvSpPr>
            <p:spPr>
              <a:xfrm>
                <a:off x="4686120" y="5939640"/>
                <a:ext cx="189360" cy="132840"/>
              </a:xfrm>
              <a:prstGeom prst="rect">
                <a:avLst/>
              </a:prstGeom>
              <a:noFill/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35"/>
              <p:cNvSpPr/>
              <p:nvPr/>
            </p:nvSpPr>
            <p:spPr>
              <a:xfrm>
                <a:off x="4684320" y="5669280"/>
                <a:ext cx="189360" cy="132840"/>
              </a:xfrm>
              <a:prstGeom prst="rect">
                <a:avLst/>
              </a:prstGeom>
              <a:noFill/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36"/>
              <p:cNvSpPr/>
              <p:nvPr/>
            </p:nvSpPr>
            <p:spPr>
              <a:xfrm>
                <a:off x="4684320" y="6201360"/>
                <a:ext cx="189360" cy="132840"/>
              </a:xfrm>
              <a:prstGeom prst="rect">
                <a:avLst/>
              </a:prstGeom>
              <a:noFill/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37"/>
              <p:cNvSpPr/>
              <p:nvPr/>
            </p:nvSpPr>
            <p:spPr>
              <a:xfrm>
                <a:off x="4881600" y="5939640"/>
                <a:ext cx="189360" cy="132840"/>
              </a:xfrm>
              <a:prstGeom prst="rect">
                <a:avLst/>
              </a:prstGeom>
              <a:noFill/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38"/>
              <p:cNvSpPr/>
              <p:nvPr/>
            </p:nvSpPr>
            <p:spPr>
              <a:xfrm>
                <a:off x="4493160" y="5939640"/>
                <a:ext cx="189360" cy="132840"/>
              </a:xfrm>
              <a:prstGeom prst="rect">
                <a:avLst/>
              </a:prstGeom>
              <a:noFill/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2" name="Group 39"/>
          <p:cNvGrpSpPr/>
          <p:nvPr/>
        </p:nvGrpSpPr>
        <p:grpSpPr>
          <a:xfrm>
            <a:off x="954000" y="955800"/>
            <a:ext cx="2338560" cy="2739960"/>
            <a:chOff x="954000" y="955800"/>
            <a:chExt cx="2338560" cy="2739960"/>
          </a:xfrm>
        </p:grpSpPr>
        <p:grpSp>
          <p:nvGrpSpPr>
            <p:cNvPr id="373" name="Group 40"/>
            <p:cNvGrpSpPr/>
            <p:nvPr/>
          </p:nvGrpSpPr>
          <p:grpSpPr>
            <a:xfrm>
              <a:off x="954000" y="955800"/>
              <a:ext cx="2338560" cy="2739960"/>
              <a:chOff x="954000" y="955800"/>
              <a:chExt cx="2338560" cy="2739960"/>
            </a:xfrm>
          </p:grpSpPr>
          <p:pic>
            <p:nvPicPr>
              <p:cNvPr id="374" name="Picture 41" descr=""/>
              <p:cNvPicPr/>
              <p:nvPr/>
            </p:nvPicPr>
            <p:blipFill>
              <a:blip r:embed="rId2"/>
              <a:srcRect l="6250" t="19447" r="59980" b="28474"/>
              <a:stretch/>
            </p:blipFill>
            <p:spPr>
              <a:xfrm>
                <a:off x="954000" y="955800"/>
                <a:ext cx="2338560" cy="271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5" name="Rectangle 42"/>
              <p:cNvSpPr/>
              <p:nvPr/>
            </p:nvSpPr>
            <p:spPr>
              <a:xfrm>
                <a:off x="954000" y="963720"/>
                <a:ext cx="2338560" cy="2732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Rectangle 43"/>
            <p:cNvSpPr/>
            <p:nvPr/>
          </p:nvSpPr>
          <p:spPr>
            <a:xfrm>
              <a:off x="1584360" y="1186920"/>
              <a:ext cx="189360" cy="13284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44"/>
            <p:cNvSpPr/>
            <p:nvPr/>
          </p:nvSpPr>
          <p:spPr>
            <a:xfrm>
              <a:off x="1584360" y="1448640"/>
              <a:ext cx="189360" cy="13284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45"/>
            <p:cNvSpPr/>
            <p:nvPr/>
          </p:nvSpPr>
          <p:spPr>
            <a:xfrm>
              <a:off x="1584360" y="2248920"/>
              <a:ext cx="189360" cy="13284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46"/>
            <p:cNvSpPr/>
            <p:nvPr/>
          </p:nvSpPr>
          <p:spPr>
            <a:xfrm>
              <a:off x="1401840" y="1709640"/>
              <a:ext cx="189360" cy="13284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47"/>
            <p:cNvSpPr/>
            <p:nvPr/>
          </p:nvSpPr>
          <p:spPr>
            <a:xfrm>
              <a:off x="1965240" y="1448640"/>
              <a:ext cx="189720" cy="13284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48"/>
            <p:cNvSpPr/>
            <p:nvPr/>
          </p:nvSpPr>
          <p:spPr>
            <a:xfrm>
              <a:off x="2150640" y="1448640"/>
              <a:ext cx="189720" cy="13284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49"/>
            <p:cNvSpPr/>
            <p:nvPr/>
          </p:nvSpPr>
          <p:spPr>
            <a:xfrm>
              <a:off x="3100320" y="1448640"/>
              <a:ext cx="189360" cy="13284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50"/>
            <p:cNvSpPr/>
            <p:nvPr/>
          </p:nvSpPr>
          <p:spPr>
            <a:xfrm>
              <a:off x="2526120" y="1186920"/>
              <a:ext cx="189720" cy="13284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51"/>
            <p:cNvSpPr/>
            <p:nvPr/>
          </p:nvSpPr>
          <p:spPr>
            <a:xfrm>
              <a:off x="2714400" y="1186920"/>
              <a:ext cx="189360" cy="13284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52"/>
            <p:cNvSpPr/>
            <p:nvPr/>
          </p:nvSpPr>
          <p:spPr>
            <a:xfrm>
              <a:off x="2336040" y="1709640"/>
              <a:ext cx="189360" cy="13284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53"/>
            <p:cNvSpPr/>
            <p:nvPr/>
          </p:nvSpPr>
          <p:spPr>
            <a:xfrm>
              <a:off x="2912400" y="1709640"/>
              <a:ext cx="189720" cy="13284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54"/>
            <p:cNvSpPr/>
            <p:nvPr/>
          </p:nvSpPr>
          <p:spPr>
            <a:xfrm>
              <a:off x="2150640" y="2248920"/>
              <a:ext cx="189720" cy="13284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55"/>
            <p:cNvSpPr/>
            <p:nvPr/>
          </p:nvSpPr>
          <p:spPr>
            <a:xfrm>
              <a:off x="2912400" y="2248920"/>
              <a:ext cx="189720" cy="13284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56"/>
            <p:cNvSpPr/>
            <p:nvPr/>
          </p:nvSpPr>
          <p:spPr>
            <a:xfrm>
              <a:off x="1965240" y="2773800"/>
              <a:ext cx="189720" cy="13284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57"/>
            <p:cNvSpPr/>
            <p:nvPr/>
          </p:nvSpPr>
          <p:spPr>
            <a:xfrm>
              <a:off x="2526120" y="2773800"/>
              <a:ext cx="189720" cy="13284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58"/>
            <p:cNvSpPr/>
            <p:nvPr/>
          </p:nvSpPr>
          <p:spPr>
            <a:xfrm>
              <a:off x="2714400" y="2773800"/>
              <a:ext cx="189360" cy="13284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59"/>
            <p:cNvSpPr/>
            <p:nvPr/>
          </p:nvSpPr>
          <p:spPr>
            <a:xfrm>
              <a:off x="2526120" y="3045240"/>
              <a:ext cx="189720" cy="13284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60"/>
            <p:cNvSpPr/>
            <p:nvPr/>
          </p:nvSpPr>
          <p:spPr>
            <a:xfrm>
              <a:off x="2714400" y="2507760"/>
              <a:ext cx="189360" cy="13284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61"/>
            <p:cNvSpPr/>
            <p:nvPr/>
          </p:nvSpPr>
          <p:spPr>
            <a:xfrm>
              <a:off x="3100320" y="2507760"/>
              <a:ext cx="189360" cy="13284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62"/>
            <p:cNvSpPr/>
            <p:nvPr/>
          </p:nvSpPr>
          <p:spPr>
            <a:xfrm>
              <a:off x="3100320" y="3191400"/>
              <a:ext cx="189360" cy="13284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63"/>
          <p:cNvGrpSpPr/>
          <p:nvPr/>
        </p:nvGrpSpPr>
        <p:grpSpPr>
          <a:xfrm>
            <a:off x="3965400" y="955800"/>
            <a:ext cx="2338560" cy="2754000"/>
            <a:chOff x="3965400" y="955800"/>
            <a:chExt cx="2338560" cy="2754000"/>
          </a:xfrm>
        </p:grpSpPr>
        <p:grpSp>
          <p:nvGrpSpPr>
            <p:cNvPr id="397" name="Group 64"/>
            <p:cNvGrpSpPr/>
            <p:nvPr/>
          </p:nvGrpSpPr>
          <p:grpSpPr>
            <a:xfrm>
              <a:off x="3965400" y="955800"/>
              <a:ext cx="2338560" cy="2740680"/>
              <a:chOff x="3965400" y="955800"/>
              <a:chExt cx="2338560" cy="2740680"/>
            </a:xfrm>
          </p:grpSpPr>
          <p:pic>
            <p:nvPicPr>
              <p:cNvPr id="398" name="Picture 65" descr=""/>
              <p:cNvPicPr/>
              <p:nvPr/>
            </p:nvPicPr>
            <p:blipFill>
              <a:blip r:embed="rId3"/>
              <a:srcRect l="6250" t="19447" r="59980" b="28474"/>
              <a:stretch/>
            </p:blipFill>
            <p:spPr>
              <a:xfrm>
                <a:off x="3965400" y="955800"/>
                <a:ext cx="2338560" cy="271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Rectangle 66"/>
              <p:cNvSpPr/>
              <p:nvPr/>
            </p:nvSpPr>
            <p:spPr>
              <a:xfrm>
                <a:off x="3965400" y="963720"/>
                <a:ext cx="2338560" cy="2732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" name="Rectangle 67"/>
            <p:cNvSpPr/>
            <p:nvPr/>
          </p:nvSpPr>
          <p:spPr>
            <a:xfrm>
              <a:off x="6112440" y="1186920"/>
              <a:ext cx="189720" cy="13284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68"/>
            <p:cNvSpPr/>
            <p:nvPr/>
          </p:nvSpPr>
          <p:spPr>
            <a:xfrm>
              <a:off x="6112440" y="1455840"/>
              <a:ext cx="189720" cy="13284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69"/>
            <p:cNvSpPr/>
            <p:nvPr/>
          </p:nvSpPr>
          <p:spPr>
            <a:xfrm>
              <a:off x="6112440" y="1721880"/>
              <a:ext cx="189720" cy="13284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70"/>
            <p:cNvSpPr/>
            <p:nvPr/>
          </p:nvSpPr>
          <p:spPr>
            <a:xfrm>
              <a:off x="6112440" y="1990800"/>
              <a:ext cx="189720" cy="13284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71"/>
            <p:cNvSpPr/>
            <p:nvPr/>
          </p:nvSpPr>
          <p:spPr>
            <a:xfrm>
              <a:off x="6112440" y="2251800"/>
              <a:ext cx="189720" cy="13284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72"/>
            <p:cNvSpPr/>
            <p:nvPr/>
          </p:nvSpPr>
          <p:spPr>
            <a:xfrm>
              <a:off x="6112440" y="2520360"/>
              <a:ext cx="189720" cy="13284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73"/>
            <p:cNvSpPr/>
            <p:nvPr/>
          </p:nvSpPr>
          <p:spPr>
            <a:xfrm>
              <a:off x="6112440" y="2786400"/>
              <a:ext cx="189720" cy="13284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74"/>
            <p:cNvSpPr/>
            <p:nvPr/>
          </p:nvSpPr>
          <p:spPr>
            <a:xfrm>
              <a:off x="6112440" y="3055320"/>
              <a:ext cx="189720" cy="13284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75"/>
            <p:cNvSpPr/>
            <p:nvPr/>
          </p:nvSpPr>
          <p:spPr>
            <a:xfrm>
              <a:off x="6112440" y="3308400"/>
              <a:ext cx="189720" cy="13284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76"/>
            <p:cNvSpPr/>
            <p:nvPr/>
          </p:nvSpPr>
          <p:spPr>
            <a:xfrm>
              <a:off x="6112440" y="3576960"/>
              <a:ext cx="189720" cy="13284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77"/>
            <p:cNvSpPr/>
            <p:nvPr/>
          </p:nvSpPr>
          <p:spPr>
            <a:xfrm>
              <a:off x="5158440" y="1186920"/>
              <a:ext cx="189360" cy="13284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78"/>
            <p:cNvSpPr/>
            <p:nvPr/>
          </p:nvSpPr>
          <p:spPr>
            <a:xfrm>
              <a:off x="5158440" y="1455840"/>
              <a:ext cx="189360" cy="13284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79"/>
            <p:cNvSpPr/>
            <p:nvPr/>
          </p:nvSpPr>
          <p:spPr>
            <a:xfrm>
              <a:off x="5158440" y="1721880"/>
              <a:ext cx="189360" cy="13284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80"/>
            <p:cNvSpPr/>
            <p:nvPr/>
          </p:nvSpPr>
          <p:spPr>
            <a:xfrm>
              <a:off x="5158440" y="1990800"/>
              <a:ext cx="189360" cy="13284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81"/>
            <p:cNvSpPr/>
            <p:nvPr/>
          </p:nvSpPr>
          <p:spPr>
            <a:xfrm>
              <a:off x="5158440" y="2251800"/>
              <a:ext cx="189360" cy="13284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82"/>
            <p:cNvSpPr/>
            <p:nvPr/>
          </p:nvSpPr>
          <p:spPr>
            <a:xfrm>
              <a:off x="5158440" y="2520360"/>
              <a:ext cx="189360" cy="13284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3"/>
            <p:cNvSpPr/>
            <p:nvPr/>
          </p:nvSpPr>
          <p:spPr>
            <a:xfrm>
              <a:off x="5158440" y="2786400"/>
              <a:ext cx="189360" cy="13284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84"/>
            <p:cNvSpPr/>
            <p:nvPr/>
          </p:nvSpPr>
          <p:spPr>
            <a:xfrm>
              <a:off x="5158440" y="3055320"/>
              <a:ext cx="189360" cy="13284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85"/>
            <p:cNvSpPr/>
            <p:nvPr/>
          </p:nvSpPr>
          <p:spPr>
            <a:xfrm>
              <a:off x="5158440" y="3308400"/>
              <a:ext cx="189360" cy="13284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86"/>
            <p:cNvSpPr/>
            <p:nvPr/>
          </p:nvSpPr>
          <p:spPr>
            <a:xfrm>
              <a:off x="5158440" y="3576960"/>
              <a:ext cx="189360" cy="132840"/>
            </a:xfrm>
            <a:prstGeom prst="rect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87"/>
          <p:cNvGrpSpPr/>
          <p:nvPr/>
        </p:nvGrpSpPr>
        <p:grpSpPr>
          <a:xfrm>
            <a:off x="990720" y="4118040"/>
            <a:ext cx="2338200" cy="2739960"/>
            <a:chOff x="990720" y="4118040"/>
            <a:chExt cx="2338200" cy="2739960"/>
          </a:xfrm>
        </p:grpSpPr>
        <p:grpSp>
          <p:nvGrpSpPr>
            <p:cNvPr id="421" name="Group 88"/>
            <p:cNvGrpSpPr/>
            <p:nvPr/>
          </p:nvGrpSpPr>
          <p:grpSpPr>
            <a:xfrm>
              <a:off x="990720" y="4118040"/>
              <a:ext cx="2338200" cy="2739960"/>
              <a:chOff x="990720" y="4118040"/>
              <a:chExt cx="2338200" cy="2739960"/>
            </a:xfrm>
          </p:grpSpPr>
          <p:pic>
            <p:nvPicPr>
              <p:cNvPr id="422" name="Picture 89" descr=""/>
              <p:cNvPicPr/>
              <p:nvPr/>
            </p:nvPicPr>
            <p:blipFill>
              <a:blip r:embed="rId4"/>
              <a:srcRect l="6250" t="19447" r="59980" b="28474"/>
              <a:stretch/>
            </p:blipFill>
            <p:spPr>
              <a:xfrm>
                <a:off x="990720" y="4118040"/>
                <a:ext cx="2338200" cy="271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Rectangle 90"/>
              <p:cNvSpPr/>
              <p:nvPr/>
            </p:nvSpPr>
            <p:spPr>
              <a:xfrm>
                <a:off x="990720" y="4125960"/>
                <a:ext cx="2338200" cy="2732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Rectangle 91"/>
            <p:cNvSpPr/>
            <p:nvPr/>
          </p:nvSpPr>
          <p:spPr>
            <a:xfrm>
              <a:off x="1380960" y="4229280"/>
              <a:ext cx="62280" cy="1049400"/>
            </a:xfrm>
            <a:prstGeom prst="rect">
              <a:avLst/>
            </a:prstGeom>
            <a:solidFill>
              <a:srgbClr val="ff0066"/>
            </a:solid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92"/>
            <p:cNvSpPr/>
            <p:nvPr/>
          </p:nvSpPr>
          <p:spPr>
            <a:xfrm>
              <a:off x="1380960" y="6081480"/>
              <a:ext cx="62280" cy="763200"/>
            </a:xfrm>
            <a:prstGeom prst="rect">
              <a:avLst/>
            </a:prstGeom>
            <a:solidFill>
              <a:srgbClr val="996633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93"/>
            <p:cNvSpPr/>
            <p:nvPr/>
          </p:nvSpPr>
          <p:spPr>
            <a:xfrm>
              <a:off x="1380960" y="5285880"/>
              <a:ext cx="62280" cy="771840"/>
            </a:xfrm>
            <a:prstGeom prst="rect">
              <a:avLst/>
            </a:prstGeom>
            <a:solidFill>
              <a:srgbClr val="0080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94"/>
            <p:cNvSpPr/>
            <p:nvPr/>
          </p:nvSpPr>
          <p:spPr>
            <a:xfrm>
              <a:off x="1804320" y="5414400"/>
              <a:ext cx="189360" cy="13284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95"/>
            <p:cNvSpPr/>
            <p:nvPr/>
          </p:nvSpPr>
          <p:spPr>
            <a:xfrm>
              <a:off x="2756880" y="5668200"/>
              <a:ext cx="189360" cy="13284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96"/>
            <p:cNvSpPr/>
            <p:nvPr/>
          </p:nvSpPr>
          <p:spPr>
            <a:xfrm>
              <a:off x="2572560" y="5931000"/>
              <a:ext cx="189360" cy="13284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97"/>
            <p:cNvSpPr/>
            <p:nvPr/>
          </p:nvSpPr>
          <p:spPr>
            <a:xfrm>
              <a:off x="2939400" y="5668200"/>
              <a:ext cx="189360" cy="13284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98"/>
            <p:cNvSpPr/>
            <p:nvPr/>
          </p:nvSpPr>
          <p:spPr>
            <a:xfrm>
              <a:off x="2376720" y="6717960"/>
              <a:ext cx="189360" cy="132840"/>
            </a:xfrm>
            <a:prstGeom prst="rect">
              <a:avLst/>
            </a:prstGeom>
            <a:noFill/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99"/>
            <p:cNvSpPr/>
            <p:nvPr/>
          </p:nvSpPr>
          <p:spPr>
            <a:xfrm>
              <a:off x="2764800" y="6717960"/>
              <a:ext cx="189360" cy="132840"/>
            </a:xfrm>
            <a:prstGeom prst="rect">
              <a:avLst/>
            </a:prstGeom>
            <a:noFill/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00"/>
            <p:cNvSpPr/>
            <p:nvPr/>
          </p:nvSpPr>
          <p:spPr>
            <a:xfrm>
              <a:off x="3129840" y="6458760"/>
              <a:ext cx="189360" cy="132840"/>
            </a:xfrm>
            <a:prstGeom prst="rect">
              <a:avLst/>
            </a:prstGeom>
            <a:noFill/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01"/>
            <p:cNvSpPr/>
            <p:nvPr/>
          </p:nvSpPr>
          <p:spPr>
            <a:xfrm>
              <a:off x="2191680" y="6458760"/>
              <a:ext cx="189360" cy="132840"/>
            </a:xfrm>
            <a:prstGeom prst="rect">
              <a:avLst/>
            </a:prstGeom>
            <a:noFill/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02"/>
            <p:cNvSpPr/>
            <p:nvPr/>
          </p:nvSpPr>
          <p:spPr>
            <a:xfrm>
              <a:off x="2939400" y="6717960"/>
              <a:ext cx="189360" cy="132840"/>
            </a:xfrm>
            <a:prstGeom prst="rect">
              <a:avLst/>
            </a:prstGeom>
            <a:noFill/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03"/>
            <p:cNvSpPr/>
            <p:nvPr/>
          </p:nvSpPr>
          <p:spPr>
            <a:xfrm>
              <a:off x="1621800" y="4616280"/>
              <a:ext cx="189360" cy="1328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104"/>
            <p:cNvSpPr/>
            <p:nvPr/>
          </p:nvSpPr>
          <p:spPr>
            <a:xfrm>
              <a:off x="1810440" y="5144040"/>
              <a:ext cx="189360" cy="1328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105"/>
            <p:cNvSpPr/>
            <p:nvPr/>
          </p:nvSpPr>
          <p:spPr>
            <a:xfrm>
              <a:off x="2948040" y="4349160"/>
              <a:ext cx="189360" cy="1328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06"/>
            <p:cNvSpPr/>
            <p:nvPr/>
          </p:nvSpPr>
          <p:spPr>
            <a:xfrm>
              <a:off x="2564640" y="4616280"/>
              <a:ext cx="189360" cy="1328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07"/>
            <p:cNvSpPr/>
            <p:nvPr/>
          </p:nvSpPr>
          <p:spPr>
            <a:xfrm>
              <a:off x="2183760" y="4882320"/>
              <a:ext cx="189360" cy="1328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108"/>
            <p:cNvSpPr/>
            <p:nvPr/>
          </p:nvSpPr>
          <p:spPr>
            <a:xfrm>
              <a:off x="2367000" y="4616280"/>
              <a:ext cx="189360" cy="1328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109"/>
            <p:cNvSpPr/>
            <p:nvPr/>
          </p:nvSpPr>
          <p:spPr>
            <a:xfrm>
              <a:off x="2939400" y="5144040"/>
              <a:ext cx="189360" cy="1328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110"/>
            <p:cNvSpPr/>
            <p:nvPr/>
          </p:nvSpPr>
          <p:spPr>
            <a:xfrm>
              <a:off x="2756880" y="4349160"/>
              <a:ext cx="189360" cy="1328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111"/>
            <p:cNvSpPr/>
            <p:nvPr/>
          </p:nvSpPr>
          <p:spPr>
            <a:xfrm>
              <a:off x="1804320" y="5669280"/>
              <a:ext cx="189360" cy="13284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112"/>
            <p:cNvSpPr/>
            <p:nvPr/>
          </p:nvSpPr>
          <p:spPr>
            <a:xfrm>
              <a:off x="2385360" y="5669280"/>
              <a:ext cx="189360" cy="13284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13"/>
            <p:cNvSpPr/>
            <p:nvPr/>
          </p:nvSpPr>
          <p:spPr>
            <a:xfrm>
              <a:off x="1469520" y="6459840"/>
              <a:ext cx="189360" cy="132840"/>
            </a:xfrm>
            <a:prstGeom prst="rect">
              <a:avLst/>
            </a:prstGeom>
            <a:noFill/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114"/>
          <p:cNvSpPr/>
          <p:nvPr/>
        </p:nvSpPr>
        <p:spPr>
          <a:xfrm>
            <a:off x="7227720" y="4557600"/>
            <a:ext cx="50832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114"/>
          <p:cNvSpPr/>
          <p:nvPr/>
        </p:nvSpPr>
        <p:spPr>
          <a:xfrm>
            <a:off x="1219320" y="487440"/>
            <a:ext cx="7067520" cy="4283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Arial"/>
              </a:rPr>
              <a:t>Practice for scholarship questions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Arial"/>
              </a:rPr>
              <a:t>1. Memorise the 4 types of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Arial"/>
              </a:rPr>
              <a:t>sampling techniques and the advantages &amp; disadvantages of each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500" spc="-1" strike="noStrike">
                <a:solidFill>
                  <a:srgbClr val="000000"/>
                </a:solidFill>
                <a:latin typeface="Arial"/>
              </a:rPr>
              <a:t>(*asked in scholarship exam every year!*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Arial"/>
              </a:rPr>
              <a:t>2. Do Old Sigma (2</a:t>
            </a:r>
            <a:r>
              <a:rPr b="1" lang="en-NZ" sz="25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NZ" sz="2500" spc="-1" strike="noStrike">
                <a:solidFill>
                  <a:srgbClr val="000000"/>
                </a:solidFill>
                <a:latin typeface="Arial"/>
              </a:rPr>
              <a:t> edition):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500" spc="-1" strike="noStrike">
                <a:solidFill>
                  <a:srgbClr val="000000"/>
                </a:solidFill>
                <a:latin typeface="Arial"/>
              </a:rPr>
              <a:t>Ex. 9.3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Arial"/>
              </a:rPr>
              <a:t>3. Then Ex. 24.9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0" y="0"/>
            <a:ext cx="9144000" cy="63738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3"/>
          <p:cNvSpPr/>
          <p:nvPr/>
        </p:nvSpPr>
        <p:spPr>
          <a:xfrm>
            <a:off x="379440" y="5218200"/>
            <a:ext cx="13968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.04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379440" y="-1080"/>
            <a:ext cx="85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Here is a brief description of an investigation into house pric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6"/>
          <p:cNvGrpSpPr/>
          <p:nvPr/>
        </p:nvGrpSpPr>
        <p:grpSpPr>
          <a:xfrm>
            <a:off x="371520" y="4304160"/>
            <a:ext cx="8772480" cy="1173960"/>
            <a:chOff x="371520" y="4304160"/>
            <a:chExt cx="8772480" cy="1173960"/>
          </a:xfrm>
        </p:grpSpPr>
        <p:sp>
          <p:nvSpPr>
            <p:cNvPr id="454" name="Rectangle 7"/>
            <p:cNvSpPr/>
            <p:nvPr/>
          </p:nvSpPr>
          <p:spPr>
            <a:xfrm>
              <a:off x="371520" y="4627800"/>
              <a:ext cx="786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Times New Roman"/>
                </a:rPr>
                <a:t>The sample data shows that the median price is only $281 000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Group 8"/>
            <p:cNvGrpSpPr/>
            <p:nvPr/>
          </p:nvGrpSpPr>
          <p:grpSpPr>
            <a:xfrm>
              <a:off x="379440" y="4304160"/>
              <a:ext cx="8764560" cy="1173960"/>
              <a:chOff x="379440" y="4304160"/>
              <a:chExt cx="8764560" cy="1173960"/>
            </a:xfrm>
          </p:grpSpPr>
          <p:sp>
            <p:nvSpPr>
              <p:cNvPr id="456" name="Rectangle 9"/>
              <p:cNvSpPr/>
              <p:nvPr/>
            </p:nvSpPr>
            <p:spPr>
              <a:xfrm>
                <a:off x="379440" y="5018400"/>
                <a:ext cx="876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000000"/>
                    </a:solidFill>
                    <a:latin typeface="Times New Roman"/>
                  </a:rPr>
                  <a:t>A boxplot shows the distribution of house prices is </a:t>
                </a:r>
                <a:r>
                  <a:rPr b="0" i="1" lang="en-AU" sz="2400" spc="-1" strike="noStrike">
                    <a:solidFill>
                      <a:srgbClr val="000000"/>
                    </a:solidFill>
                    <a:latin typeface="Times New Roman"/>
                  </a:rPr>
                  <a:t>not</a:t>
                </a:r>
                <a:r>
                  <a:rPr b="0" lang="en-AU" sz="2400" spc="-1" strike="noStrike">
                    <a:solidFill>
                      <a:srgbClr val="000000"/>
                    </a:solidFill>
                    <a:latin typeface="Times New Roman"/>
                  </a:rPr>
                  <a:t> symmetric.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Rectangle 10"/>
              <p:cNvSpPr/>
              <p:nvPr/>
            </p:nvSpPr>
            <p:spPr>
              <a:xfrm>
                <a:off x="379440" y="4304160"/>
                <a:ext cx="841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9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333399"/>
                    </a:solidFill>
                    <a:latin typeface="Times New Roman"/>
                  </a:rPr>
                  <a:t>Conclusions from the data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8" name="Group 11"/>
          <p:cNvGrpSpPr/>
          <p:nvPr/>
        </p:nvGrpSpPr>
        <p:grpSpPr>
          <a:xfrm>
            <a:off x="367920" y="1806840"/>
            <a:ext cx="8426880" cy="1148760"/>
            <a:chOff x="367920" y="1806840"/>
            <a:chExt cx="8426880" cy="1148760"/>
          </a:xfrm>
        </p:grpSpPr>
        <p:sp>
          <p:nvSpPr>
            <p:cNvPr id="459" name="Rectangle 12"/>
            <p:cNvSpPr/>
            <p:nvPr/>
          </p:nvSpPr>
          <p:spPr>
            <a:xfrm>
              <a:off x="379440" y="1806840"/>
              <a:ext cx="84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333399"/>
                  </a:solidFill>
                  <a:latin typeface="Times New Roman"/>
                </a:rPr>
                <a:t>Sampling method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13"/>
            <p:cNvSpPr/>
            <p:nvPr/>
          </p:nvSpPr>
          <p:spPr>
            <a:xfrm>
              <a:off x="367920" y="2130120"/>
              <a:ext cx="8232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Times New Roman"/>
                </a:rPr>
                <a:t>A mixture of cluster sampling and systematic sampling is used to </a:t>
              </a:r>
              <a:br>
                <a:rPr sz="2400"/>
              </a:br>
              <a:r>
                <a:rPr b="0" lang="en-AU" sz="2400" spc="-1" strike="noStrike">
                  <a:solidFill>
                    <a:srgbClr val="000000"/>
                  </a:solidFill>
                  <a:latin typeface="Times New Roman"/>
                </a:rPr>
                <a:t>obtain the data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14"/>
          <p:cNvGrpSpPr/>
          <p:nvPr/>
        </p:nvGrpSpPr>
        <p:grpSpPr>
          <a:xfrm>
            <a:off x="364680" y="3054960"/>
            <a:ext cx="8430120" cy="1149120"/>
            <a:chOff x="364680" y="3054960"/>
            <a:chExt cx="8430120" cy="1149120"/>
          </a:xfrm>
        </p:grpSpPr>
        <p:sp>
          <p:nvSpPr>
            <p:cNvPr id="462" name="Rectangle 15"/>
            <p:cNvSpPr/>
            <p:nvPr/>
          </p:nvSpPr>
          <p:spPr>
            <a:xfrm>
              <a:off x="364680" y="3378600"/>
              <a:ext cx="8300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Times New Roman"/>
                </a:rPr>
                <a:t>The data is entered into a spreadsheet, sample statistics calculated </a:t>
              </a:r>
              <a:br>
                <a:rPr sz="2400"/>
              </a:br>
              <a:r>
                <a:rPr b="0" lang="en-AU" sz="2400" spc="-1" strike="noStrike">
                  <a:solidFill>
                    <a:srgbClr val="000000"/>
                  </a:solidFill>
                  <a:latin typeface="Times New Roman"/>
                </a:rPr>
                <a:t>and appropriate graphs produced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6"/>
            <p:cNvSpPr/>
            <p:nvPr/>
          </p:nvSpPr>
          <p:spPr>
            <a:xfrm>
              <a:off x="379440" y="3054960"/>
              <a:ext cx="84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333399"/>
                  </a:solidFill>
                  <a:latin typeface="Times New Roman"/>
                </a:rPr>
                <a:t>Data processing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17"/>
          <p:cNvGrpSpPr/>
          <p:nvPr/>
        </p:nvGrpSpPr>
        <p:grpSpPr>
          <a:xfrm>
            <a:off x="379440" y="557640"/>
            <a:ext cx="8529480" cy="1149120"/>
            <a:chOff x="379440" y="557640"/>
            <a:chExt cx="8529480" cy="1149120"/>
          </a:xfrm>
        </p:grpSpPr>
        <p:sp>
          <p:nvSpPr>
            <p:cNvPr id="465" name="Rectangle 18"/>
            <p:cNvSpPr/>
            <p:nvPr/>
          </p:nvSpPr>
          <p:spPr>
            <a:xfrm>
              <a:off x="379440" y="557640"/>
              <a:ext cx="852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333399"/>
                  </a:solidFill>
                  <a:latin typeface="Times New Roman"/>
                </a:rPr>
                <a:t>Hypothesi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9"/>
            <p:cNvSpPr/>
            <p:nvPr/>
          </p:nvSpPr>
          <p:spPr>
            <a:xfrm>
              <a:off x="379440" y="881280"/>
              <a:ext cx="8529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Times New Roman"/>
                </a:rPr>
                <a:t>The median price that a house is sold for in Auckland is $350 000, and the distribution of house prices is not symmetric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Rectangle 20"/>
          <p:cNvSpPr/>
          <p:nvPr/>
        </p:nvSpPr>
        <p:spPr>
          <a:xfrm>
            <a:off x="379440" y="5578560"/>
            <a:ext cx="85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ritically evaluate the sampling process described in detail on the next slid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0" y="0"/>
            <a:ext cx="9144000" cy="6253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379440" y="5586480"/>
            <a:ext cx="13968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377280" y="-1080"/>
            <a:ext cx="29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sampling metho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5"/>
          <p:cNvSpPr/>
          <p:nvPr/>
        </p:nvSpPr>
        <p:spPr>
          <a:xfrm>
            <a:off x="368280" y="683280"/>
            <a:ext cx="82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 mixture of cluster sampling and systematic sampling is chos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6"/>
          <p:cNvSpPr/>
          <p:nvPr/>
        </p:nvSpPr>
        <p:spPr>
          <a:xfrm>
            <a:off x="371880" y="1602000"/>
            <a:ext cx="751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re are nine pages (numbered from 1811 to 1819) of real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state agents in the Auckland Yellow Pages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379440" y="2479680"/>
            <a:ext cx="840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ach page has 4 columns, with a maximum of about 50 phone numbers on ea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8"/>
          <p:cNvSpPr/>
          <p:nvPr/>
        </p:nvSpPr>
        <p:spPr>
          <a:xfrm>
            <a:off x="379440" y="5489640"/>
            <a:ext cx="915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ach of the 4 locations obtained is visited and all prices in every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econd row in their office windows record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9"/>
          <p:cNvSpPr/>
          <p:nvPr/>
        </p:nvSpPr>
        <p:spPr>
          <a:xfrm>
            <a:off x="379440" y="4283640"/>
            <a:ext cx="91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=RANDBETWEEN(1811,1819),RANDBETWEEN(1,4),RANDBETWEEN(1,5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0"/>
          <p:cNvSpPr/>
          <p:nvPr/>
        </p:nvSpPr>
        <p:spPr>
          <a:xfrm>
            <a:off x="379440" y="3386160"/>
            <a:ext cx="915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 random number generator or spreadsheet formula is used to get the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4 clusters (ie 4 real estate office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.04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2"/>
          <p:cNvSpPr/>
          <p:nvPr/>
        </p:nvSpPr>
        <p:spPr>
          <a:xfrm>
            <a:off x="377640" y="1234080"/>
            <a:ext cx="22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Times New Roman"/>
              </a:rPr>
              <a:t>Cluster samp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3"/>
          <p:cNvSpPr/>
          <p:nvPr/>
        </p:nvSpPr>
        <p:spPr>
          <a:xfrm>
            <a:off x="376200" y="5066280"/>
            <a:ext cx="27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Times New Roman"/>
              </a:rPr>
              <a:t>Systematic samp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4"/>
          <p:cNvSpPr/>
          <p:nvPr/>
        </p:nvSpPr>
        <p:spPr>
          <a:xfrm>
            <a:off x="379440" y="4599720"/>
            <a:ext cx="91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en-AU" sz="2000" spc="-1" strike="noStrike">
                <a:solidFill>
                  <a:srgbClr val="008000"/>
                </a:solidFill>
                <a:latin typeface="Times New Roman"/>
              </a:rPr>
              <a:t>Page (1811 to 1819)                   Column (1</a:t>
            </a:r>
            <a:r>
              <a:rPr b="0" lang="en-A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–</a:t>
            </a:r>
            <a:r>
              <a:rPr b="0" lang="en-AU" sz="2000" spc="-1" strike="noStrike">
                <a:solidFill>
                  <a:srgbClr val="008000"/>
                </a:solidFill>
                <a:latin typeface="Times New Roman"/>
              </a:rPr>
              <a:t>4)                  Entry (1 to 50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379440" y="5586480"/>
            <a:ext cx="13968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363960" y="3700440"/>
            <a:ext cx="888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t would not be practical to visit a large number of real estate locations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nd only select a few house pric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368280" y="4510440"/>
            <a:ext cx="80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Hence a cluster sample is faster and more convenient to obtain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0"/>
            <a:ext cx="9144000" cy="29908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.04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7"/>
          <p:cNvSpPr/>
          <p:nvPr/>
        </p:nvSpPr>
        <p:spPr>
          <a:xfrm>
            <a:off x="363240" y="438840"/>
            <a:ext cx="66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Choose a mixture of cluster sampling and systematic sampl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8"/>
          <p:cNvSpPr/>
          <p:nvPr/>
        </p:nvSpPr>
        <p:spPr>
          <a:xfrm>
            <a:off x="360720" y="795960"/>
            <a:ext cx="631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There are nine pages (numbered from 1811 to 1819) of real </a:t>
            </a:r>
            <a:br>
              <a:rPr sz="2000"/>
            </a:b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estate agents in the Auckland Yellow Page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9"/>
          <p:cNvSpPr/>
          <p:nvPr/>
        </p:nvSpPr>
        <p:spPr>
          <a:xfrm>
            <a:off x="379440" y="1458000"/>
            <a:ext cx="84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Each page has 4 columns, with a maximum of about 50 phone numbers on eac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0"/>
          <p:cNvSpPr/>
          <p:nvPr/>
        </p:nvSpPr>
        <p:spPr>
          <a:xfrm>
            <a:off x="379440" y="2170800"/>
            <a:ext cx="915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Each location is visited and all prices in every second row in their </a:t>
            </a:r>
            <a:br>
              <a:rPr sz="2000"/>
            </a:b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office windows record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1"/>
          <p:cNvSpPr/>
          <p:nvPr/>
        </p:nvSpPr>
        <p:spPr>
          <a:xfrm>
            <a:off x="379440" y="1815120"/>
            <a:ext cx="91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Use a random numbers to obtain 4 clusters (ie 4 real estate offices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2"/>
          <p:cNvSpPr/>
          <p:nvPr/>
        </p:nvSpPr>
        <p:spPr>
          <a:xfrm>
            <a:off x="375480" y="-1080"/>
            <a:ext cx="37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Justify the sampling metho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3"/>
          <p:cNvSpPr/>
          <p:nvPr/>
        </p:nvSpPr>
        <p:spPr>
          <a:xfrm>
            <a:off x="379440" y="315972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9900"/>
                </a:solidFill>
                <a:latin typeface="Times New Roman"/>
              </a:rPr>
              <a:t>Justify the use of cluster sampl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379440" y="5329080"/>
            <a:ext cx="13968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368640" y="3705480"/>
            <a:ext cx="73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aking a systematic sample from each location helps with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convenience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366480" y="4716720"/>
            <a:ext cx="872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ecause the data can be collected comparatively quickly a ‘snapshot’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f prices at the same point in time is possibl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379440" y="317376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9900"/>
                </a:solidFill>
                <a:latin typeface="Times New Roman"/>
              </a:rPr>
              <a:t>Justify the use of systematic sampl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0" y="0"/>
            <a:ext cx="9144000" cy="29908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7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.04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8"/>
          <p:cNvSpPr/>
          <p:nvPr/>
        </p:nvSpPr>
        <p:spPr>
          <a:xfrm>
            <a:off x="363240" y="438840"/>
            <a:ext cx="66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Choose a mixture of cluster sampling and systematic sampl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9"/>
          <p:cNvSpPr/>
          <p:nvPr/>
        </p:nvSpPr>
        <p:spPr>
          <a:xfrm>
            <a:off x="360720" y="795960"/>
            <a:ext cx="631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There are nine pages (numbered from 1811 to 1819) of real </a:t>
            </a:r>
            <a:br>
              <a:rPr sz="2000"/>
            </a:b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estate agents in the Auckland Yellow Page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0"/>
          <p:cNvSpPr/>
          <p:nvPr/>
        </p:nvSpPr>
        <p:spPr>
          <a:xfrm>
            <a:off x="379440" y="1458000"/>
            <a:ext cx="84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Each page has 4 columns, with a maximum of about 50 phone numbers on eac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1"/>
          <p:cNvSpPr/>
          <p:nvPr/>
        </p:nvSpPr>
        <p:spPr>
          <a:xfrm>
            <a:off x="379440" y="2170800"/>
            <a:ext cx="915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Each location is visited and all prices in every second row in their </a:t>
            </a:r>
            <a:br>
              <a:rPr sz="2000"/>
            </a:b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office windows record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2"/>
          <p:cNvSpPr/>
          <p:nvPr/>
        </p:nvSpPr>
        <p:spPr>
          <a:xfrm>
            <a:off x="375480" y="-1080"/>
            <a:ext cx="37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Justify the sampling metho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3"/>
          <p:cNvSpPr/>
          <p:nvPr/>
        </p:nvSpPr>
        <p:spPr>
          <a:xfrm>
            <a:off x="379440" y="1815120"/>
            <a:ext cx="91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Use a random numbers to obtain 4 clusters (ie 4 real estate offices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Sampling Techniques that you need to be able to descri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1499760"/>
            <a:ext cx="9001080" cy="535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Good sampling techniques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(you must be able to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describ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these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&amp; give advantages &amp; disadvantages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for using each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Simple Random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Systematic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Stratified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luster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Bad sampling techniques </a:t>
            </a:r>
            <a:r>
              <a:rPr b="1" lang="en-NZ" sz="2600" spc="-1" strike="noStrike" u="sng">
                <a:solidFill>
                  <a:srgbClr val="000000"/>
                </a:solidFill>
                <a:uFillTx/>
                <a:latin typeface="Comic Sans MS"/>
              </a:rPr>
              <a:t>(bias selection processes)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onvenience sampling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(e.g. go to the Square &amp; interview the first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people you see)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Self-selected sampling  </a:t>
            </a: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(e.g. people phoning in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0" y="0"/>
            <a:ext cx="9144000" cy="5968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379440" y="5586480"/>
            <a:ext cx="13968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.04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371160" y="-1080"/>
            <a:ext cx="51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ritically evaluate the sampling proces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6"/>
          <p:cNvSpPr/>
          <p:nvPr/>
        </p:nvSpPr>
        <p:spPr>
          <a:xfrm>
            <a:off x="379440" y="64980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Times New Roman"/>
              </a:rPr>
              <a:t>Note that the sample is almost certainly biased, and has many faul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379440" y="110052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9900"/>
                </a:solidFill>
                <a:latin typeface="Times New Roman"/>
              </a:rPr>
              <a:t>Comment on the choice of clust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8"/>
          <p:cNvSpPr/>
          <p:nvPr/>
        </p:nvSpPr>
        <p:spPr>
          <a:xfrm>
            <a:off x="379440" y="413208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(The characteristics of Auckland suburbs mean some have low and fairly uniform prices, while others, like Milford, have very expensive beachfront property.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9"/>
          <p:cNvSpPr/>
          <p:nvPr/>
        </p:nvSpPr>
        <p:spPr>
          <a:xfrm>
            <a:off x="379440" y="319572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number of clusters is too low and there is a significant difference between the cluster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0"/>
          <p:cNvSpPr/>
          <p:nvPr/>
        </p:nvSpPr>
        <p:spPr>
          <a:xfrm>
            <a:off x="379440" y="543528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Further preliminary research would help select areas for inclusion in a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stratified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sample, and this would more accurately reflect the popul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11"/>
          <p:cNvGrpSpPr/>
          <p:nvPr/>
        </p:nvGrpSpPr>
        <p:grpSpPr>
          <a:xfrm>
            <a:off x="360720" y="1651680"/>
            <a:ext cx="9177120" cy="1389600"/>
            <a:chOff x="360720" y="1651680"/>
            <a:chExt cx="9177120" cy="1389600"/>
          </a:xfrm>
        </p:grpSpPr>
        <p:sp>
          <p:nvSpPr>
            <p:cNvPr id="515" name="Rectangle 12"/>
            <p:cNvSpPr/>
            <p:nvPr/>
          </p:nvSpPr>
          <p:spPr>
            <a:xfrm>
              <a:off x="360720" y="1651680"/>
              <a:ext cx="6314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000" spc="-1" strike="noStrike">
                  <a:solidFill>
                    <a:srgbClr val="333399"/>
                  </a:solidFill>
                  <a:latin typeface="Times New Roman"/>
                </a:rPr>
                <a:t>There are nine pages (numbered from 1811 to 1819) of real </a:t>
              </a:r>
              <a:br>
                <a:rPr sz="2000"/>
              </a:br>
              <a:r>
                <a:rPr b="0" lang="en-AU" sz="2000" spc="-1" strike="noStrike">
                  <a:solidFill>
                    <a:srgbClr val="333399"/>
                  </a:solidFill>
                  <a:latin typeface="Times New Roman"/>
                </a:rPr>
                <a:t>estate agents in the Auckland Yellow Pages. 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3"/>
            <p:cNvSpPr/>
            <p:nvPr/>
          </p:nvSpPr>
          <p:spPr>
            <a:xfrm>
              <a:off x="379440" y="2299320"/>
              <a:ext cx="84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000" spc="-1" strike="noStrike">
                  <a:solidFill>
                    <a:srgbClr val="333399"/>
                  </a:solidFill>
                  <a:latin typeface="Times New Roman"/>
                </a:rPr>
                <a:t>Each page has 4 columns, with a maximum of about 50 phone numbers on each.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14"/>
            <p:cNvSpPr/>
            <p:nvPr/>
          </p:nvSpPr>
          <p:spPr>
            <a:xfrm>
              <a:off x="379440" y="2642400"/>
              <a:ext cx="915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000" spc="-1" strike="noStrike">
                  <a:solidFill>
                    <a:srgbClr val="333399"/>
                  </a:solidFill>
                  <a:latin typeface="Times New Roman"/>
                </a:rPr>
                <a:t>Use a random numbers to obtain 4 clusters (ie 4 real estate offices).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0" y="0"/>
            <a:ext cx="9144000" cy="5968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379440" y="5586480"/>
            <a:ext cx="13968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4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.04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5"/>
          <p:cNvSpPr/>
          <p:nvPr/>
        </p:nvSpPr>
        <p:spPr>
          <a:xfrm>
            <a:off x="371160" y="-1080"/>
            <a:ext cx="51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ritically evaluate the sampling proces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379440" y="64980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Times New Roman"/>
              </a:rPr>
              <a:t>Note that the sample is almost certainly biased, and has many faul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7"/>
          <p:cNvSpPr/>
          <p:nvPr/>
        </p:nvSpPr>
        <p:spPr>
          <a:xfrm>
            <a:off x="379440" y="12880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9900"/>
                </a:solidFill>
                <a:latin typeface="Times New Roman"/>
              </a:rPr>
              <a:t>Comment on the use of systematic sampl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8"/>
          <p:cNvSpPr/>
          <p:nvPr/>
        </p:nvSpPr>
        <p:spPr>
          <a:xfrm>
            <a:off x="379440" y="1791360"/>
            <a:ext cx="915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Each location is visited and all prices in every second row in their </a:t>
            </a:r>
            <a:br>
              <a:rPr sz="2000"/>
            </a:b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office windows record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9"/>
          <p:cNvSpPr/>
          <p:nvPr/>
        </p:nvSpPr>
        <p:spPr>
          <a:xfrm>
            <a:off x="379440" y="276516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ne particular row of advertisements and photos of houses may include bargains only, or better quality houses, and some houses may not be advertised the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0"/>
            <a:ext cx="9144000" cy="5968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.04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371160" y="-1080"/>
            <a:ext cx="51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ritically evaluate the sampling proces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379440" y="317628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list in the Yellow Pages is not exhaustive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rivate sales are excluded for example, and some houses are listed with more than one real estate agent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6"/>
          <p:cNvSpPr/>
          <p:nvPr/>
        </p:nvSpPr>
        <p:spPr>
          <a:xfrm>
            <a:off x="379440" y="64980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Times New Roman"/>
              </a:rPr>
              <a:t>Note that the sample is almost certainly biased, and has many faul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379440" y="236700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everal selling methods are excluded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ale by tender or auction for example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here the price is unknown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8"/>
          <p:cNvSpPr/>
          <p:nvPr/>
        </p:nvSpPr>
        <p:spPr>
          <a:xfrm>
            <a:off x="379440" y="435132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ome real estate agents are listed more than once, so are more likely to be chos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9"/>
          <p:cNvSpPr/>
          <p:nvPr/>
        </p:nvSpPr>
        <p:spPr>
          <a:xfrm>
            <a:off x="379440" y="560412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ome areas of Auckland may be over-supplied with real estate offices, again making these areas more likely to be selec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0"/>
          <p:cNvSpPr/>
          <p:nvPr/>
        </p:nvSpPr>
        <p:spPr>
          <a:xfrm>
            <a:off x="379440" y="516132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re are an unequal number of agents listed in each column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1"/>
          <p:cNvSpPr/>
          <p:nvPr/>
        </p:nvSpPr>
        <p:spPr>
          <a:xfrm>
            <a:off x="379440" y="155736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s well as the data not supplying the information required in the hypothesis, it is incomplete, and has duplications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2"/>
          <p:cNvSpPr/>
          <p:nvPr/>
        </p:nvSpPr>
        <p:spPr>
          <a:xfrm>
            <a:off x="379440" y="11134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9900"/>
                </a:solidFill>
                <a:latin typeface="Times New Roman"/>
              </a:rPr>
              <a:t>Comment on the quality of the d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0" y="0"/>
            <a:ext cx="9144000" cy="5968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379440" y="5586480"/>
            <a:ext cx="13968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.04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371160" y="-1080"/>
            <a:ext cx="51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ritically evaluate the sampling proces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379440" y="337464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is data would answer the question directly, and should include all sales within a particular time period, with no duplication, so would be representative of the population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379440" y="186084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sampling process could be improved by gaining access to actual sales data used by real estate age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379440" y="280080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(Not easy because they guard it jealously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379440" y="64980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99"/>
                </a:solidFill>
                <a:latin typeface="Times New Roman"/>
              </a:rPr>
              <a:t>Note that the sample is almost certainly biased, and has many faul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0"/>
          <p:cNvSpPr/>
          <p:nvPr/>
        </p:nvSpPr>
        <p:spPr>
          <a:xfrm>
            <a:off x="379440" y="12880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9900"/>
                </a:solidFill>
                <a:latin typeface="Times New Roman"/>
              </a:rPr>
              <a:t>Comment as to how better data could be obtain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1"/>
          <p:cNvSpPr/>
          <p:nvPr/>
        </p:nvSpPr>
        <p:spPr>
          <a:xfrm>
            <a:off x="3919680" y="5108400"/>
            <a:ext cx="2743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11"/>
          <p:cNvSpPr/>
          <p:nvPr/>
        </p:nvSpPr>
        <p:spPr>
          <a:xfrm>
            <a:off x="0" y="714240"/>
            <a:ext cx="9144000" cy="520560"/>
          </a:xfrm>
          <a:prstGeom prst="rect">
            <a:avLst/>
          </a:prstGeom>
          <a:solidFill>
            <a:srgbClr val="ffff66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Do Old Sigma:   Ex. 9.2–Q1, Ex. 9.3, Ex. 24.9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1. Simple Random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990720"/>
            <a:ext cx="822960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Obtain a list of all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tems in the target population, numbering them 1 to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(e.g. the school roll: 1-60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Decide how many you will select for your sample (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Use the random number generator on your calculator to select numbers at random between 1 and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On calculator, type: 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1    +   Population size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× RAN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Keep pressing ‘equals’ until you have selected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different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items (discard any repea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dvantage of SR sampling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:  Ensures that every item in the population has an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equal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chance of being selected – therefore, by definition, no selection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ia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13840" y="0"/>
            <a:ext cx="8929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86000"/>
          </a:bodyPr>
          <a:p>
            <a:pPr marL="393120" indent="-393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Decide how many you will select for your sample (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Use the random number generator on your calculator to select numbers at random between 1 and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On calculator, type: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1    +   Population size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× RAN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Keep pressing ‘equals’ until you have selected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different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items (discard any repea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dvantage of SR sampling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:  Ensures that every item in the population has an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equal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chance of being selected –  therefore, by definition, no selection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ia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otential disadvantage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Under/over representation of some sub-groups: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Does not ensure that all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ub-group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of the population are represented in proportion (e.g. ethnicities, Sth Islande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Data collection inconvenient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Only if sampling from a large geographical area.  Chosen items are randomly distributed all over the place (no groupings or system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571680" y="2500200"/>
            <a:ext cx="7848360" cy="9471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Do Old Sigma (2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edition) pg. 134 – Ex. 9.2: Q1 onl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350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04640" y="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le random sampl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4759200" y="973080"/>
            <a:ext cx="4268520" cy="5001840"/>
            <a:chOff x="4759200" y="973080"/>
            <a:chExt cx="4268520" cy="5001840"/>
          </a:xfrm>
        </p:grpSpPr>
        <p:pic>
          <p:nvPicPr>
            <p:cNvPr id="101" name="Picture 5" descr=""/>
            <p:cNvPicPr/>
            <p:nvPr/>
          </p:nvPicPr>
          <p:blipFill>
            <a:blip r:embed="rId1"/>
            <a:srcRect l="6250" t="19447" r="59980" b="28474"/>
            <a:stretch/>
          </p:blipFill>
          <p:spPr>
            <a:xfrm>
              <a:off x="4759200" y="973080"/>
              <a:ext cx="4268520" cy="495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Rectangle 6"/>
            <p:cNvSpPr/>
            <p:nvPr/>
          </p:nvSpPr>
          <p:spPr>
            <a:xfrm>
              <a:off x="4759200" y="987480"/>
              <a:ext cx="4268520" cy="498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7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1.03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366840" y="792000"/>
            <a:ext cx="429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te 20 different random numbers between 1 and 10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366840" y="3446640"/>
            <a:ext cx="504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2  67    2  12  77  49  60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  45  15  64    7    8  21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  64  58  14  29  68  26  90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0"/>
          <p:cNvGrpSpPr/>
          <p:nvPr/>
        </p:nvGrpSpPr>
        <p:grpSpPr>
          <a:xfrm>
            <a:off x="468000" y="4281480"/>
            <a:ext cx="811080" cy="318960"/>
            <a:chOff x="468000" y="4281480"/>
            <a:chExt cx="811080" cy="318960"/>
          </a:xfrm>
        </p:grpSpPr>
        <p:sp>
          <p:nvSpPr>
            <p:cNvPr id="107" name="Line 11"/>
            <p:cNvSpPr/>
            <p:nvPr/>
          </p:nvSpPr>
          <p:spPr>
            <a:xfrm flipH="1">
              <a:off x="468000" y="4281480"/>
              <a:ext cx="361800" cy="318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 flipH="1">
              <a:off x="917280" y="4281480"/>
              <a:ext cx="361800" cy="318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13"/>
          <p:cNvSpPr/>
          <p:nvPr/>
        </p:nvSpPr>
        <p:spPr>
          <a:xfrm>
            <a:off x="366840" y="1676520"/>
            <a:ext cx="500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 random number has already occurred, generate more as need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366840" y="2562120"/>
            <a:ext cx="500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culator formul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  +   1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RAN#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5910120" y="1395360"/>
            <a:ext cx="346320" cy="2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5910120" y="1873080"/>
            <a:ext cx="346320" cy="2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5910120" y="3333600"/>
            <a:ext cx="346320" cy="2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5576760" y="2349360"/>
            <a:ext cx="346320" cy="2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9"/>
          <p:cNvSpPr/>
          <p:nvPr/>
        </p:nvSpPr>
        <p:spPr>
          <a:xfrm>
            <a:off x="6605640" y="1873080"/>
            <a:ext cx="345960" cy="2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0"/>
          <p:cNvSpPr/>
          <p:nvPr/>
        </p:nvSpPr>
        <p:spPr>
          <a:xfrm>
            <a:off x="6943680" y="1873080"/>
            <a:ext cx="345960" cy="2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1"/>
          <p:cNvSpPr/>
          <p:nvPr/>
        </p:nvSpPr>
        <p:spPr>
          <a:xfrm>
            <a:off x="8677440" y="1873080"/>
            <a:ext cx="345960" cy="2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7629480" y="1395360"/>
            <a:ext cx="345960" cy="2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3"/>
          <p:cNvSpPr/>
          <p:nvPr/>
        </p:nvSpPr>
        <p:spPr>
          <a:xfrm>
            <a:off x="7972560" y="1395360"/>
            <a:ext cx="345960" cy="2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4"/>
          <p:cNvSpPr/>
          <p:nvPr/>
        </p:nvSpPr>
        <p:spPr>
          <a:xfrm>
            <a:off x="7281720" y="2349360"/>
            <a:ext cx="346320" cy="2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5"/>
          <p:cNvSpPr/>
          <p:nvPr/>
        </p:nvSpPr>
        <p:spPr>
          <a:xfrm>
            <a:off x="8334360" y="2349360"/>
            <a:ext cx="345960" cy="2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6"/>
          <p:cNvSpPr/>
          <p:nvPr/>
        </p:nvSpPr>
        <p:spPr>
          <a:xfrm>
            <a:off x="6943680" y="3333600"/>
            <a:ext cx="345960" cy="2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7"/>
          <p:cNvSpPr/>
          <p:nvPr/>
        </p:nvSpPr>
        <p:spPr>
          <a:xfrm>
            <a:off x="8334360" y="3333600"/>
            <a:ext cx="345960" cy="2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8"/>
          <p:cNvSpPr/>
          <p:nvPr/>
        </p:nvSpPr>
        <p:spPr>
          <a:xfrm>
            <a:off x="6605640" y="4292640"/>
            <a:ext cx="345960" cy="2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9"/>
          <p:cNvSpPr/>
          <p:nvPr/>
        </p:nvSpPr>
        <p:spPr>
          <a:xfrm>
            <a:off x="7629480" y="4292640"/>
            <a:ext cx="345960" cy="2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0"/>
          <p:cNvSpPr/>
          <p:nvPr/>
        </p:nvSpPr>
        <p:spPr>
          <a:xfrm>
            <a:off x="7972560" y="4292640"/>
            <a:ext cx="345960" cy="24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1"/>
          <p:cNvSpPr/>
          <p:nvPr/>
        </p:nvSpPr>
        <p:spPr>
          <a:xfrm>
            <a:off x="7629480" y="4788000"/>
            <a:ext cx="345960" cy="242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2"/>
          <p:cNvSpPr/>
          <p:nvPr/>
        </p:nvSpPr>
        <p:spPr>
          <a:xfrm>
            <a:off x="7972560" y="3807000"/>
            <a:ext cx="345960" cy="242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3"/>
          <p:cNvSpPr/>
          <p:nvPr/>
        </p:nvSpPr>
        <p:spPr>
          <a:xfrm>
            <a:off x="8677440" y="3807000"/>
            <a:ext cx="345960" cy="242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4"/>
          <p:cNvSpPr/>
          <p:nvPr/>
        </p:nvSpPr>
        <p:spPr>
          <a:xfrm>
            <a:off x="8677440" y="5054760"/>
            <a:ext cx="345960" cy="242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5"/>
          <p:cNvSpPr/>
          <p:nvPr/>
        </p:nvSpPr>
        <p:spPr>
          <a:xfrm>
            <a:off x="479520" y="3846600"/>
            <a:ext cx="290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6"/>
          <p:cNvSpPr/>
          <p:nvPr/>
        </p:nvSpPr>
        <p:spPr>
          <a:xfrm>
            <a:off x="930240" y="3846600"/>
            <a:ext cx="290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7"/>
          <p:cNvSpPr/>
          <p:nvPr/>
        </p:nvSpPr>
        <p:spPr>
          <a:xfrm>
            <a:off x="1424160" y="3846600"/>
            <a:ext cx="290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8"/>
          <p:cNvSpPr/>
          <p:nvPr/>
        </p:nvSpPr>
        <p:spPr>
          <a:xfrm>
            <a:off x="1859040" y="3846600"/>
            <a:ext cx="290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9"/>
          <p:cNvSpPr/>
          <p:nvPr/>
        </p:nvSpPr>
        <p:spPr>
          <a:xfrm>
            <a:off x="2293920" y="3846600"/>
            <a:ext cx="290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0"/>
          <p:cNvSpPr/>
          <p:nvPr/>
        </p:nvSpPr>
        <p:spPr>
          <a:xfrm>
            <a:off x="2744640" y="3846600"/>
            <a:ext cx="290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1"/>
          <p:cNvSpPr/>
          <p:nvPr/>
        </p:nvSpPr>
        <p:spPr>
          <a:xfrm>
            <a:off x="3252960" y="3846600"/>
            <a:ext cx="290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2"/>
          <p:cNvSpPr/>
          <p:nvPr/>
        </p:nvSpPr>
        <p:spPr>
          <a:xfrm>
            <a:off x="479520" y="4210200"/>
            <a:ext cx="290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3"/>
          <p:cNvSpPr/>
          <p:nvPr/>
        </p:nvSpPr>
        <p:spPr>
          <a:xfrm>
            <a:off x="930240" y="4210200"/>
            <a:ext cx="290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4"/>
          <p:cNvSpPr/>
          <p:nvPr/>
        </p:nvSpPr>
        <p:spPr>
          <a:xfrm>
            <a:off x="1424160" y="4210200"/>
            <a:ext cx="290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5"/>
          <p:cNvSpPr/>
          <p:nvPr/>
        </p:nvSpPr>
        <p:spPr>
          <a:xfrm>
            <a:off x="1859040" y="4210200"/>
            <a:ext cx="290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6"/>
          <p:cNvSpPr/>
          <p:nvPr/>
        </p:nvSpPr>
        <p:spPr>
          <a:xfrm>
            <a:off x="2293920" y="4210200"/>
            <a:ext cx="290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7"/>
          <p:cNvSpPr/>
          <p:nvPr/>
        </p:nvSpPr>
        <p:spPr>
          <a:xfrm>
            <a:off x="2744640" y="4210200"/>
            <a:ext cx="290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8"/>
          <p:cNvSpPr/>
          <p:nvPr/>
        </p:nvSpPr>
        <p:spPr>
          <a:xfrm>
            <a:off x="3252960" y="4210200"/>
            <a:ext cx="290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9"/>
          <p:cNvSpPr/>
          <p:nvPr/>
        </p:nvSpPr>
        <p:spPr>
          <a:xfrm>
            <a:off x="1422360" y="4587840"/>
            <a:ext cx="290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0"/>
          <p:cNvSpPr/>
          <p:nvPr/>
        </p:nvSpPr>
        <p:spPr>
          <a:xfrm>
            <a:off x="1873080" y="4587840"/>
            <a:ext cx="290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1"/>
          <p:cNvSpPr/>
          <p:nvPr/>
        </p:nvSpPr>
        <p:spPr>
          <a:xfrm>
            <a:off x="2367000" y="4587840"/>
            <a:ext cx="290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2"/>
          <p:cNvSpPr/>
          <p:nvPr/>
        </p:nvSpPr>
        <p:spPr>
          <a:xfrm>
            <a:off x="2801880" y="4587840"/>
            <a:ext cx="290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53"/>
          <p:cNvSpPr/>
          <p:nvPr/>
        </p:nvSpPr>
        <p:spPr>
          <a:xfrm>
            <a:off x="3236760" y="4587840"/>
            <a:ext cx="290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4"/>
          <p:cNvSpPr/>
          <p:nvPr/>
        </p:nvSpPr>
        <p:spPr>
          <a:xfrm>
            <a:off x="3687840" y="4587840"/>
            <a:ext cx="2905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ystematic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28600" y="914400"/>
            <a:ext cx="8763120" cy="59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89000"/>
          </a:bodyPr>
          <a:p>
            <a:pPr marL="406800" indent="-406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Obtain a list of all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tems in the target population and </a:t>
            </a:r>
            <a:r>
              <a:rPr b="0" i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numbe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the items from 1</a:t>
            </a:r>
            <a:r>
              <a:rPr b="0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(Sampling Fram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Decide on your sample size,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Pick a </a:t>
            </a:r>
            <a:r>
              <a:rPr b="0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random starting point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n your list by generating a random number from 1</a:t>
            </a:r>
            <a:r>
              <a:rPr b="0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(e.g. item number 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ample </a:t>
            </a:r>
            <a:r>
              <a:rPr b="0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every </a:t>
            </a:r>
            <a:r>
              <a:rPr b="0" i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k</a:t>
            </a:r>
            <a:r>
              <a:rPr b="0" lang="en-NZ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th</a:t>
            </a:r>
            <a:r>
              <a:rPr b="0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 item after that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 where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until you have selected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items.  Cycle back through if you reach the end of the list before you have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i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Ensures that sample is selected from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roughout the breadth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of the sampling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onvenient and fast – easier to collect info on items that are in a sequence (every 5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house) than from a random sample where they are scattered all o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0" y="214200"/>
            <a:ext cx="9144000" cy="650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2000"/>
          </a:bodyPr>
          <a:p>
            <a:pPr marL="420480" indent="-420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ample </a:t>
            </a:r>
            <a:r>
              <a:rPr b="0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every </a:t>
            </a:r>
            <a:r>
              <a:rPr b="0" i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k</a:t>
            </a:r>
            <a:r>
              <a:rPr b="0" lang="en-NZ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th</a:t>
            </a:r>
            <a:r>
              <a:rPr b="0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 item after that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 where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until you have selected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items.  Cycle back through if you reach the end of the list before you have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i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Ensures that sample is selected from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roughout the breadt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of the sampling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onvenient and fast – easier to collect info on items that are in a sequence (every 5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house) than from a random sample where they are scattered all o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Disadvan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Be careful that the list itself has no regular pattern that matches your systematic selection (i.e. where every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item shares similar characteristics </a:t>
            </a:r>
            <a:r>
              <a:rPr b="0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in the variable you are measuring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0" y="214200"/>
            <a:ext cx="9144000" cy="650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Ensures that sample is selected from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roughout the breadt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of the sampling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onvenient and fast – easier to collect info on items that are in a sequence (every 5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house) than from a random sample where they are scattered all o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Disadvan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Be careful that the list itself has no regular pattern that matches your systematic selection (i.e. where every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item shares similar characteristics </a:t>
            </a:r>
            <a:r>
              <a:rPr b="0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in the variable you are measuring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E.g. If every 2</a:t>
            </a:r>
            <a:r>
              <a:rPr b="0" lang="en-NZ" sz="2400" spc="-1" strike="noStrike" baseline="30000">
                <a:solidFill>
                  <a:srgbClr val="0000ff"/>
                </a:solidFill>
                <a:latin typeface="Comic Sans MS"/>
              </a:rPr>
              <a:t>nd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 house on a street were sampled, all would be on the same side of the stree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04:17:49Z</dcterms:created>
  <dc:creator>Jeremy Brocklehurst</dc:creator>
  <dc:description/>
  <dc:language>en-US</dc:language>
  <cp:lastModifiedBy>Jeremy Brocklehurst</cp:lastModifiedBy>
  <dcterms:modified xsi:type="dcterms:W3CDTF">2011-08-23T18:47:06Z</dcterms:modified>
  <cp:revision>1039</cp:revision>
  <dc:subject>Statistics and Modelling Course</dc:subject>
  <dc:title>13SAM Scholarship preparation</dc:title>
</cp:coreProperties>
</file>